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2CC7-6A17-4BF1-9AAE-5795B0707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A22A-1FE3-496B-9D60-E2005A9B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63BC-A427-4F34-AC02-F16C1C4AB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ED7C-328D-4CF4-BC5E-0D6F6459E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C473-F108-4F85-8E92-FA0F3C93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88B9-9FC6-41CD-BAE3-99133CAC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B697-7EE6-4284-BA79-61F90CDD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6795-D03E-4A11-BE61-BD206B20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E25B-B5CB-4948-8C41-E6410743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12E6-CBFA-4161-8C10-D83012B2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EDEF-E779-4C6A-9AA0-04209BCB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9EEB-942F-417A-987D-3D096686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91FB-BEBF-40C2-A879-329DAED6D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2924280"/>
            <a:ext cx="7132680" cy="8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IGITALNI VIDIK PRIPRAVE GLASBENE KOMPOZICIJ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 ANALOGNO PREDVAJANJ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5292720" y="515772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Žiga Nov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2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54936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2492280"/>
            <a:ext cx="7848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TVARJA SE Z ELEKTRONSKO OPR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TESIZER, SAMPLER, RAČUNALNIK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ENOVANA TUDI RAČUNALNIŠKA GLAS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 RAZVOJEM PROGRAMOV LAHKO MANIPULIRA Z ZVOK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A USTVARJANJE SE UPORABLJAJO POSEBNI PROGR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54936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47640" y="1268280"/>
            <a:ext cx="640908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GODOV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AČETEK OB KONCU 70-t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 ZAČETKU 90-tih MANJ KVALITET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 KONCU 90-tih SE IZBOLJŠA, ZARA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PEŠENEGA RAZVOJA RAČUNALNI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ANE BOLJ MELODIČNA IN DODEL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DMEVNA LETNICA (1994) V SLOVENI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ENA TISTEGA ČA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L COX, MARUSHA, LAURENT GARN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HOOLIGAN, KRAFTWE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54936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1557360"/>
            <a:ext cx="8064360" cy="37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ZVRSTI ELEKTRONSKE GLAS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 HC, SPEEDCORE, HAPPY HC, GABB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STAREJŠI HC IZJEMNO RAZNOL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DINAMIČNA IN PREPROSTA STRUK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RAZNOLIKI ZVO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OD 180 BPM NAVZG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SPEED CORE DOSEGA HITROST 1200 B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NOVEJŠI HC, MONOTON, AGRESIVNEJŠI, NEGATIV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54936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1557360"/>
            <a:ext cx="7345440" cy="37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PPY HC, KI JE NASPROTJE STAREJŠEGA H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SEBUJE VISOKE TONE IN GLAS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LASOVI SPOMINJAJO NA OTROŠKE RISAN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NOTONOST OSTAJA, KONSTANTEN B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BBER; RAZVOJ IZ HC POD VPLIVOM DARK MET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WER NOISE; KOMBINACIJA HC IN BREAKB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AT NI KONSTANTEN, AMPAK LOMLJ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SEGA HITROST 200 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54936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1700280"/>
            <a:ext cx="727236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CH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KONSTANTEN B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HITROST OD 120 – 140 BP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ACID, TRIBAL, FUNKY, HARD, VOOD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RAZVOJ SCHRANZA (11.september 2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JE DARK IN VSEBUJE AGRESI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140 – 160 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9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2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5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8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1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4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7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549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71640" y="1125360"/>
            <a:ext cx="6193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ENA STAREJŠIH ZVR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NASTALA POD VPLIVOM DISKO GLAS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MELODIČNA, VSEBUJE DOSTI VOKAL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80 – 120 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ACID, TRIBAL, HARD, FUNKY, PROGRE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4221000"/>
            <a:ext cx="8640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ID = STAR STIL, TEMELJI NA RAČUNALNIŠK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TETIZIRANIH ZVOK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BAL = TEMELJI NA ZVOKIH TOLK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NKY = POČASNEJŠI, BOGATI ZVOKI IN NESITETIČNI, NENARAV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ESSIVE = MELODIČEN, USKLAJEVANJE ZVOK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16000" y="2349360"/>
            <a:ext cx="69850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D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UKCI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SESTAVA KOMADA (SEKVENCA, SOUNDI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8366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MOFONSKA PLOŠČ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11280" y="1989000"/>
            <a:ext cx="6193080" cy="20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OGNI ZVOČNI SNEMALNI MED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VEN VRTEČI DISK, S STALNO HITROST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IRALNA POT, KJER IGLA DR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VLADUJOČ MEDIJ CELIH 70 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4149720"/>
            <a:ext cx="7201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12’’ (30 CM) 33 1/3 RPM LONG – PLAYING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12’’ (30 CM) 45 RPM EXTENDED – PLAYING SI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0213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PM = REVOLUTION PER MINUTE (ROTACIJA NA MINU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6920" y="7650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ZALNIK PLOŠ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63640" y="2276640"/>
            <a:ext cx="7056360" cy="24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R PRIBLIŽNO 110 LET, SNOVAN NA GRAMOFO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DOMETI EDISONOV CILI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20 ELEKTRONSKI SIGNAL ZAMENJA MEHANSKE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KUSTIČNA APLIKACIJA POSTANE BOLJ NATANČ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DINAMIČNO RAVNOVES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4360" y="69228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1844640"/>
            <a:ext cx="7920000" cy="20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DOBI SE Z PRETVORBO ANALOGNEGA SIGNALA ALI I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EKTRON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KRETEN IN KVANTIZI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FIČNO PREDSTAVLJA NEZVEZNO, DISKRET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NKCI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187280" y="4724280"/>
            <a:ext cx="65534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4360" y="69228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1773360"/>
            <a:ext cx="835344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ZDELITEV V DVE KATEGORI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NEKATERI SO DISKERTNI IN KVANTIZIR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NEKATERI OPIŠEJO POJAVE, KI SO NEPREST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ORABA SE JE ZELO POVEČ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ČINA HIŠNIH NAPRAV ZASNOVANA Z DIGITALNIM SIGN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DSTAVLJALJEN JE BINA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VANTIZACIJA MERJENA V BIT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4360" y="69228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32000" y="1916280"/>
            <a:ext cx="69850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D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TANČNA PREDSTAVIT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RANJEV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OMPLEKSNO PROCES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NOS BREZ NAP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LATIVNO NIZKA C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4360" y="69228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IZACIJA ZVO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2852640"/>
            <a:ext cx="77058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OSTAVEN PRIMER PROCESA DIGITALIZACIJE IN VZORČE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TEKA V TREH FAZA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VZORČE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KVANTIZ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KOD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916280"/>
            <a:ext cx="828036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 ZVOK, KI JE POSNET IN SHRANJEN V DIGITALNEM FORMA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RANJEN JE LAHKO NA CD-ju, MINIDISC, DAT TAPE, 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ČUNALNIKU V WAV ALI MP3 FORMA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VOČNE PERSPEK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STEREO ZV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SURROUND ZV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DOLBY DIGITAL 5.1. IN 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03280" y="1557360"/>
            <a:ext cx="66978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FORM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WA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AVDIO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PODATKOVNA DATOTEKA ZA RAČUNALNIŠ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UPORA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MICROSOFT IN IBM STANDARD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RAZLIČICA RIFF BI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OMEJEN NA DATOTEKE MANJŠE OD 2 G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AVDIO CD-ji GA NE UPORABLJ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19280" y="1557360"/>
            <a:ext cx="64818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MP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DIGITALNO AVDIO KOD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IZGUBEN STISKALNI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UPORABLJENE ZA DOWNLOADE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RANJEVANJE GLASBE NA RAČUNALNIK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JE KODIRNIK IN NE DATOTEČNI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42920" y="1557360"/>
            <a:ext cx="77058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GOŠČENKA (CD – COMPACT DIS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TIČNI DISK ZA SHRANJEVANJE DIGITALNIH PODATK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NI PLAYBACK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A KOMERCIALNO AVDIO PREDVAJANJE IN SNEM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 PREMER 12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0 MM ZADRŽI 74 MIN AVDIA, 80 MM PA 20 MIN AV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4T20:10:58Z</dcterms:created>
  <dc:creator>Ziga</dc:creator>
  <dc:description/>
  <dc:language>en-US</dc:language>
  <cp:lastModifiedBy>Ziga</cp:lastModifiedBy>
  <dcterms:modified xsi:type="dcterms:W3CDTF">2005-12-14T23:42:37Z</dcterms:modified>
  <cp:revision>25</cp:revision>
  <dc:subject/>
  <dc:title>Diapozitiv 1</dc:title>
</cp:coreProperties>
</file>