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A466-E23F-4B0A-82E3-669F47BB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C63F-44CA-4542-A3FA-BF2BDEC5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229-6AFD-4B8D-92D2-71891683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928-95CE-41EC-9343-BE932AC1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F196-7C4C-4FD5-B25A-8BE7E803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FFF4-8E4C-43D6-AF32-F170E7C4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34CC-371D-42CE-801E-5BB4CD46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92AF-B5D6-4A65-A804-AE2161D6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DE2F-5199-4025-BD49-45328D1B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0D1E-E5CE-4B80-94D6-843E7FC1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F430-A2EA-4A50-A68E-3525E752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3BC-0091-4CCE-9F85-A9767E9A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DA3A-B436-40B3-A6C2-0A6C9146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13CE-AEE7-4109-B74B-256C3295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D4BB-34A9-4D51-9631-1B7A3887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8246-9794-4316-923E-A7DEBE97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0839-5EF3-4351-9637-6D985688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5D4E-6C25-49A4-9A3B-0DBDA99A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8C29-B1FE-48A5-96CE-19038649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A6F2-2FA2-4818-B362-C4B89C3D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E0D-2ECC-4826-9CDA-23896053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2EE0-80E0-4943-AF8D-D038E9FD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5280-848E-469D-A3D0-E33BF418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ABE2-AB2D-49F0-A802-2DD5538F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9966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45360"/>
            <a:ext cx="19051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45360"/>
            <a:ext cx="289584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45360"/>
            <a:ext cx="19051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5A40-D3D1-4F9C-99FD-B272270AFD17}" type="slidenum"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a0d"/>
            </a:gs>
            <a:gs pos="50000">
              <a:srgbClr val="996633"/>
            </a:gs>
            <a:gs pos="100000">
              <a:srgbClr val="271a0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9966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6091-AB74-44FF-8477-9BAEA6C91F90}" type="slidenum"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kud-bu.si/bumbus" TargetMode="External"/><Relationship Id="rId2" Type="http://schemas.openxmlformats.org/officeDocument/2006/relationships/hyperlink" Target="http://kud-bu.si/bumbus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kud-bu.si/bumbus/foto/premiera/imagepages/image12.htm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811760"/>
            <a:ext cx="77738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ČLOVEŠKO TELO KOT MULTIMEDIJ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insert iz predstave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Light Roo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2420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VIRTUALCOR PROJE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5925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rtualni projekt za podaljševanje življe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nos podatkov v sis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 virtualnim zamrzovalnikom se s posebno metodo zamrzovanja telo pripravi na virtualno posteklitev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preminjanje strukture teles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green_body" descr=""/>
          <p:cNvPicPr/>
          <p:nvPr/>
        </p:nvPicPr>
        <p:blipFill>
          <a:blip r:embed="rId1"/>
          <a:stretch/>
        </p:blipFill>
        <p:spPr>
          <a:xfrm>
            <a:off x="6156360" y="3860640"/>
            <a:ext cx="230328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770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FURMINAT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virtualni aparat za fliper ki igralca ponese v središče dogajanja – na igralno površin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glava v kapsuli apar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zvočni in virtualni efekti dajejo igralcu občutek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tro-dimenzionalnost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32360" y="3716280"/>
            <a:ext cx="19717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MIRROR SPACE – VIRTUALNI ODSEV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ksplozija samega se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stem odsevov v katerem je oseb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dna kot sklop celotnega bit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 omrežju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činki in objekti preoblikovani v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i-dimenzionalne objek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oblikovanje svoje podo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oblikovanje celične struk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56360" y="1989000"/>
            <a:ext cx="22860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03916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Kako potek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iskovalec se postavi v posebno sobo ki jo razsvetljuje en sam snop svetlobe kjer ga odčita svetlobni žarek iz infrardeče kamere ki analizira podob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ces prepoznave traja približno deset seku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stem obdela podatke in ustvari tri-dimenzionalni predmet v obliki tekočega, prozornega telesa in ga projicira na veliki zasl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irror" descr=""/>
          <p:cNvPicPr/>
          <p:nvPr/>
        </p:nvPicPr>
        <p:blipFill>
          <a:blip r:embed="rId1"/>
          <a:stretch/>
        </p:blipFill>
        <p:spPr>
          <a:xfrm>
            <a:off x="1547640" y="530280"/>
            <a:ext cx="583272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2637000"/>
            <a:ext cx="3889440" cy="3659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43923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62040" y="62064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rvna struktura predmeta je izraz opisa karakter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če obiskovalec stoji bliže velikega zaslona, večja je virtualna podoba in ima tudi več energij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user2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2655720" cy="2879640"/>
          </a:xfrm>
          <a:prstGeom prst="rect">
            <a:avLst/>
          </a:prstGeom>
          <a:ln w="0">
            <a:noFill/>
          </a:ln>
        </p:spPr>
      </p:pic>
      <p:pic>
        <p:nvPicPr>
          <p:cNvPr id="142" name="user1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2519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7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IRTUALNA REALNOST  CYBERSPHER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ačunalniško virtualno okolje s katerim upravlja uporab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elika, prazna, prozorna krogla premera 3,5 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nik vstopi v kroglo in ko se začne premikati, se      le-ta začne vrteti in obračati v vse smer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ačunalniške podobe se na podlagi premikov projicirajo na zunanjo steno krogl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nik lahko hodi, teče, skače ali se plazi v katero koli smer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Cybersphere graphic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3074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Cybersphere projection"/>
          <p:cNvPicPr/>
          <p:nvPr/>
        </p:nvPicPr>
        <p:blipFill>
          <a:blip r:embed="rId2"/>
          <a:stretch/>
        </p:blipFill>
        <p:spPr>
          <a:xfrm>
            <a:off x="4098960" y="3186000"/>
            <a:ext cx="407340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883800"/>
            <a:ext cx="830736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ako človeško telo deluje kot mutimedij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678800" cy="38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ib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nazarjanj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nično – virtualn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zražanje medijev s teles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metnost (projekti, predstave, uprizoritv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IRTUAL YOU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jekt je namenjen ustvarjanju virtualnega se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ilj – razviti natančne tri-dimenzionalne virtualne podobe pravih ljudi v virtualnem svet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i-dimenzionalne podobe so narejene tako da se iz digitalnih fotografij odčita struktura telesa in obraz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a virtualnega sebe je izredna priložnost uiti vsakdanjemu resničnemu svetu v svet fantazije in domišljij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YEC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500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yeCon je program, ustvarjen za pospeševanje interaktivnih predstav ki vključujejo gibanje človeškega teles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gram za to uporablja drug medij kot npr. video kame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ko kamere, ki pošlje signal v računalnik se podoba prikaže na zaslonu, nanjo lahko rišemo črte, polja in druge element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o se potem oseba na posnetku premakne in se dotakne enega izmed elementov ki smo jih narisali lahko to sproži zvok ali video animacij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2643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MART CHAIR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judje načeloma zelo veliko časa preživimo sede, na stolu – v pisarni, v avtu, doma pred televizij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ato so strokovnjaki Media Lab-a zasnovali tako imenovani projekt pametni stol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k stol naj bi se zavedal uporabnikovih navad – položaja sedenja in gibanj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udil naj bi popolno udobje uporabniku, vključno z nekaj dobrodošlimi funkcijam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malu naj bi sledili še drugi projekti kot so pametna miza, pametne sobe in pametna oblačil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OBNARS UNITED - "</a:t>
            </a:r>
            <a:r>
              <a:rPr b="0" lang="en-US" sz="3600" spc="-1" strike="noStrike" u="sng">
                <a:solidFill>
                  <a:srgbClr val="cc3300"/>
                </a:solidFill>
                <a:uFillTx/>
                <a:latin typeface="Times New Roman"/>
                <a:hlinkClick r:id="rId1"/>
              </a:rPr>
              <a:t>BUmBUs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"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Bobnars United je skupina sedmih bobnark in bobnarjev ki prenaša izročila afriške in drugih kultur skozi glasbo in ples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BUmBUs</a:t>
            </a:r>
            <a:r>
              <a:rPr b="0" lang="en-US" sz="2200" spc="-1" strike="noStrike" u="sng">
                <a:solidFill>
                  <a:srgbClr val="eaeaea"/>
                </a:solidFill>
                <a:uFillTx/>
                <a:latin typeface="Times New Roman"/>
              </a:rPr>
              <a:t> je mutimedialni eksperimentalni projekt za gluhe in naglušne s katerim želijo skozi bobnanje in elektronske ter vizualne medije ustvariti novo, večmedijsko izkušnjo ritmično razgibanega prostora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projekt je zastavljen s poudarkom na interaktivnosti in večzaznavni komunikaciji ter osredotočen na prednosti giba kot primarnega medija gluhih in naglušnih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plesna animacija, hkratno posredovanje ritma skozi elektronske vizualije (video, animacija) kot tudi izkušnja vibracije v prostoru s pomočjo predmetov (npr. baloni), zvočil in lastnega telesa se zlijejo v celovito doživetje ritma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166920" cy="2387520"/>
          </a:xfrm>
          <a:prstGeom prst="rect">
            <a:avLst/>
          </a:prstGeom>
          <a:ln w="0">
            <a:noFill/>
          </a:ln>
        </p:spPr>
      </p:pic>
      <p:pic>
        <p:nvPicPr>
          <p:cNvPr id="157" name="tn65-kebend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2205000"/>
            <a:ext cx="2562480" cy="2592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364000" y="4365720"/>
            <a:ext cx="28814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netek s koncerta Bobnars Uni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219640" y="2349360"/>
          <a:ext cx="2249640" cy="13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349360"/>
                    <a:ext cx="224964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234280" cy="14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sl-SI" sz="3200" spc="-1" strike="noStrike">
                <a:solidFill>
                  <a:srgbClr val="ffffcc"/>
                </a:solidFill>
                <a:latin typeface="Times New Roman"/>
              </a:rPr>
              <a:t>Johannes Birringer: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"</a:t>
            </a:r>
            <a:r>
              <a:rPr b="0" lang="sl-SI" sz="3800" spc="-1" strike="noStrike">
                <a:solidFill>
                  <a:srgbClr val="ffffcc"/>
                </a:solidFill>
                <a:latin typeface="Times New Roman"/>
              </a:rPr>
              <a:t>ENVIRONMENTS</a:t>
            </a:r>
            <a:r>
              <a:rPr b="0" lang="en-US" sz="3800" spc="-1" strike="noStrike">
                <a:solidFill>
                  <a:srgbClr val="ffffcc"/>
                </a:solidFill>
                <a:latin typeface="Times New Roman"/>
                <a:ea typeface="Arial"/>
              </a:rPr>
              <a:t>"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7149960" cy="24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eden najbolj znanih medijskih koreografov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sklop plesnih projektov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nvironment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združevan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4360" y="3933720"/>
            <a:ext cx="6408720" cy="23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lesne predstave            - prostorski koncep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ehnologije                    - interaktivni sistem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 giban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 animaci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23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"ENVIRONMENTS" – THE KNO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782316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dstav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št. XII v sklopu glasbeno - plesnih 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isuje objekte poželenja in hrepenenja ki so ujeti v virtualnem svetu, prikazanem na projekcijah v ozadj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dostopni, deležni velike mere fantaziranja in sanjarje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27280" y="4292640"/>
            <a:ext cx="3384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61680" y="620640"/>
            <a:ext cx="38098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ratek odlomek iz predstave THE K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24200" y="691920"/>
            <a:ext cx="38098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cc"/>
                </a:solidFill>
                <a:latin typeface="Times New Roman"/>
              </a:rPr>
              <a:t>Ohio State University</a:t>
            </a:r>
            <a:br>
              <a:rPr sz="2800"/>
            </a:br>
            <a:r>
              <a:rPr b="0" lang="sl-SI" sz="3400" spc="-1" strike="noStrike">
                <a:solidFill>
                  <a:srgbClr val="ffffcc"/>
                </a:solidFill>
                <a:latin typeface="Times New Roman"/>
              </a:rPr>
              <a:t>MULTICULTURAL DANCE ALLIANCE</a:t>
            </a:r>
            <a:r>
              <a:rPr b="0" lang="sl-SI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študentska organizaci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 svojimi projekti skozi razne umetnostne oblike kot so ples in glasba predstavlja bogato kulturno raznoliko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zija – privzdigniti afriške in azijske plesne oblike na višjo umetniško rav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4292640"/>
            <a:ext cx="2781360" cy="1752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932360" y="4292640"/>
            <a:ext cx="25192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Random Dance - ALPH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4608360" cy="45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pha je skupina desetih plesalcev ki ustvarja projekte in predstave, namenjene predvsem otrokom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sredotočenost na nove plesne tehnologi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der – virtualno svetišč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druževanje plesa s tehnologijami animacije, digitalnega filma, razsvetljave in elektronske glas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25815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PH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24200" y="980640"/>
            <a:ext cx="380988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MPANY IN SPACE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135640" cy="43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kupina umetnikov iz Melbourn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vajanje novih in drugačnih tehnologij giba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vokativne predstave – dialogi med vidnim, slušnim in dinamičnim zaznavanj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 eni predstavi več medijev – gibi človeških teles, video in interaktivni virtualni pros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03640" y="4076640"/>
            <a:ext cx="3314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20:09:00Z</dcterms:created>
  <dc:creator>NEMESIS 3 SLO</dc:creator>
  <dc:description/>
  <dc:language>en-US</dc:language>
  <cp:lastModifiedBy>NEMESIS 3 SLO</cp:lastModifiedBy>
  <dcterms:modified xsi:type="dcterms:W3CDTF">2006-02-05T19:48:27Z</dcterms:modified>
  <cp:revision>8</cp:revision>
  <dc:subject/>
  <dc:title>ČLOVEŠKO TELO KOT MULTIMEDIJ</dc:title>
</cp:coreProperties>
</file>