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22E2C-D904-4EC0-B0ED-3A0363C45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601BD-159D-482C-B23A-CCDF2BA4F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9DA89-3DCC-4075-AAA8-3030A3489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21974-7FD0-41CF-AE3B-8498F6129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F82F8-CC1D-477E-BD96-87C9D52DB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5AB1E-F1CB-416B-8A81-A07BB622F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58369-0084-4BFA-A757-7BCAC2F0E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9F0B6-B064-4526-9424-59E0022A3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A90C0-97C6-4BF5-8EF5-80F024583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FB710-65EE-4287-8636-63526DB60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8ACA2-9506-46B5-B9DF-9C5641409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F9BA3-D46D-43F2-8A68-876719E41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07150-E54F-44E2-82CE-D8B488A4E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F538A-14E6-4407-AC32-A7061C3FB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E1074-F336-4CD8-A5C5-BE6991BC2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817BE-BB6D-4235-A05B-5C0A5932A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7A9F2-A090-4C43-9413-30CE35EB9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E0063-18EC-4863-AE81-A739ADC6A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3067D-7EAE-453F-9ADD-D8E305E1B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277A7-4F50-4C5B-AF68-0129FE5B1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D14E8-7998-4DAC-93FD-D26457CFF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46A8F-7924-4FB6-8882-A16CBA690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DACC7-3AEF-4DE8-A3DD-6A766F43D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8B083-BCA8-43AE-AB29-E14C34650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0C41B-6C3B-4D9C-A8AA-C78F253692A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B491E-31E4-4163-914E-CAA610BAB96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media-forum.si/slo/pokrajina" TargetMode="External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cc0000"/>
                </a:solidFill>
                <a:latin typeface="Arial Black"/>
              </a:rPr>
              <a:t>Časopis kot medij</a:t>
            </a:r>
            <a:r>
              <a:rPr b="0" lang="sl-SI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Časopis,televizija in radio, so najpogostejši in najučinkovitejši prenašalec informaci ali medij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cc0000"/>
                </a:solidFill>
                <a:latin typeface="Arial Black"/>
              </a:rPr>
              <a:t>Tisk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V tisku se tiska z plat formami in poznamo več vrst tika:-visoki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1995480" indent="0"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-globok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1995480" indent="0"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-propustn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1995480" indent="0"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-plosk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cc0000"/>
                </a:solidFill>
                <a:latin typeface="Arial Black"/>
              </a:rPr>
              <a:t>Dodelav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Tu se obrezejo in znesejo pole v časopis in nato, se jih šiva ali veže,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Zato imamo:-rezalne stroj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-deklšerje ali lepenčne škarj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-zlagalni stroj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-izsekovalni stroj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cc0000"/>
                </a:solidFill>
                <a:latin typeface="Arial Black"/>
              </a:rPr>
              <a:t>Časopis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Časopisi po pokrajina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333399"/>
                </a:solidFill>
                <a:latin typeface="Tahoma"/>
              </a:rPr>
              <a:t>Pripravi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Miha Hrženja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cc0000"/>
                </a:solidFill>
                <a:latin typeface="Arial Black"/>
              </a:rPr>
              <a:t>Kako nastane časopis in članek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761760" y="1599840"/>
            <a:ext cx="79246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Uredništvo:  -lekt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-urednic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-grafična obdelav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-priprav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Tiskarna:     -reprografij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-tis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-dodelav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cc0000"/>
                </a:solidFill>
                <a:latin typeface="Arial Black"/>
              </a:rPr>
              <a:t>Uredništv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3333cc"/>
                </a:solidFill>
                <a:latin typeface="Times New Roman"/>
              </a:rPr>
              <a:t>LEKT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3333cc"/>
                </a:solidFill>
                <a:latin typeface="Times New Roman"/>
              </a:rPr>
              <a:t>UREDNIC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3333cc"/>
                </a:solidFill>
                <a:latin typeface="Times New Roman"/>
              </a:rPr>
              <a:t>GRAFIČNI OBDELOV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3333cc"/>
                </a:solidFill>
                <a:latin typeface="Times New Roman"/>
              </a:rPr>
              <a:t>PRIPRAV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cc0000"/>
                </a:solidFill>
                <a:latin typeface="Arial Black"/>
              </a:rPr>
              <a:t>Lekto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Pregleda (popravlja) rokopise,članke,..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glede na jezikovno pravilnost,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cc0000"/>
                </a:solidFill>
                <a:latin typeface="Arial Black"/>
              </a:rPr>
              <a:t>Urednic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Uredniku ali redaktor, je strokovnjak ki pripravi tematsko zaokrožen del časopisa,revije,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Glavni urednik je človek, ki skrbi za celoten program, javno in pravno,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cc0000"/>
                </a:solidFill>
                <a:latin typeface="Arial Black"/>
              </a:rPr>
              <a:t>Grafično obdelovanj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Tu se obdelujejo slike. Najpogostejši programi so PhotoShop, CorelDraw,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cc0000"/>
                </a:solidFill>
                <a:latin typeface="Arial Black"/>
              </a:rPr>
              <a:t>Priprav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Tu se pripravi ves material,to so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-slik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-tek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cc0000"/>
                </a:solidFill>
                <a:latin typeface="Arial Black"/>
              </a:rPr>
              <a:t>Tiskarn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3333cc"/>
                </a:solidFill>
                <a:latin typeface="Times New Roman"/>
              </a:rPr>
              <a:t>REPROGRAFIJ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3333cc"/>
                </a:solidFill>
                <a:latin typeface="Times New Roman"/>
              </a:rPr>
              <a:t>TIS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3333cc"/>
                </a:solidFill>
                <a:latin typeface="Times New Roman"/>
              </a:rPr>
              <a:t>DODELAV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cc0000"/>
                </a:solidFill>
                <a:latin typeface="Arial Black"/>
              </a:rPr>
              <a:t>Reprografij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V reprografiji se postavi položaje slik in teksta, vecino tega se naredi v CorelDraw program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7T13:15:29Z</dcterms:created>
  <dc:creator>Miha Hamster Hrženjak</dc:creator>
  <dc:description/>
  <dc:language>en-US</dc:language>
  <cp:lastModifiedBy>Miha Hamster Hrženjak</cp:lastModifiedBy>
  <dcterms:modified xsi:type="dcterms:W3CDTF">2005-12-08T15:51:05Z</dcterms:modified>
  <cp:revision>6</cp:revision>
  <dc:subject/>
  <dc:title>Časopis kot medij </dc:title>
</cp:coreProperties>
</file>