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0687-092A-49B5-934F-FC4B834A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4078-78DF-4FFB-B892-B711DFA9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852B-8F0F-4AC8-8DBC-FA8799BD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03D5-0A9B-42F2-B939-2FDDCE52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5045-3343-4887-8868-F3492B54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71AF-3D30-4D12-8446-EA92F47C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D4CD-9DC3-48FC-A52A-FC58700A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BA61-B02E-48D0-9CED-61BEBEAA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B80B-05AD-499B-A802-DE7D670B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0D0E-01FE-4133-B3CE-2F2FFE95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7E62-B924-499D-8FE0-798DFB5C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AEE9-CB8B-4F90-9F2F-EAC7B24C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888B-E857-40DA-8149-F990FE2D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8564-7521-452F-9D4F-AD00C205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6CC3-E9F0-4CAD-82F6-B4767A98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9D51-0C91-41BE-8220-94F42F99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1E74-36EB-49E1-B34A-4F0544DD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D023-3E4C-472F-8527-A054C991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546B-085A-4BA5-8143-C0FCDFF2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FBD4-5FB8-404F-8CB3-EA3ED2C1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13EB-D9E3-430F-8C5E-53A6C1D4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D021-E37A-4409-8E78-232BCC7D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859B-C1A0-4FD9-8993-0D2DAB91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B222-C426-47FB-840A-47A74144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9966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45360"/>
            <a:ext cx="19051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45360"/>
            <a:ext cx="289584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45360"/>
            <a:ext cx="19051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CD8A-49C2-4FC7-A9F6-169CAFC9058B}" type="slidenum"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1a0d"/>
            </a:gs>
            <a:gs pos="50000">
              <a:srgbClr val="996633"/>
            </a:gs>
            <a:gs pos="100000">
              <a:srgbClr val="271a0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9966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5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5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2872-93CD-4379-B542-7E548135DB43}" type="slidenum"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kud-bu.si/bumbus" TargetMode="External"/><Relationship Id="rId2" Type="http://schemas.openxmlformats.org/officeDocument/2006/relationships/hyperlink" Target="http://kud-bu.si/bumbus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kud-bu.si/bumbus/foto/premiera/imagepages/image12.htm" TargetMode="External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4811760"/>
            <a:ext cx="77738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ČLOVEŠKO TELO KOT MULTIMEDIJ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insert iz predstave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“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Light Roo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2420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VIRTUALCOR PROJEC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5925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rtualni projekt za podaljševanje življen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nos podatkov v sis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z virtualnim zamrzovalnikom se s posebno metodo zamrzovanja telo pripravi na virtualno posteklitev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preminjanje strukture teles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green_body" descr=""/>
          <p:cNvPicPr/>
          <p:nvPr/>
        </p:nvPicPr>
        <p:blipFill>
          <a:blip r:embed="rId1"/>
          <a:stretch/>
        </p:blipFill>
        <p:spPr>
          <a:xfrm>
            <a:off x="6156360" y="3860640"/>
            <a:ext cx="230328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770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FURMINATO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2040" y="1557360"/>
            <a:ext cx="7772400" cy="44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virtualni aparat za fliper ki igralca ponese v središče dogajanja – na igralno površin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glava v kapsuli apar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zvočni in virtualni efekti dajejo igralcu občutek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tro-dimenzionalnost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32360" y="3716280"/>
            <a:ext cx="19717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MIRROR SPACE – VIRTUALNI ODSEV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ksplozija samega se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stem odsevov v katerem je oseb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dna kot sklop celotnega bit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 omrežju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činki in objekti preoblikovani v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i-dimenzionalne objek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oblikovanje svoje podo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oblikovanje celične struk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56360" y="1989000"/>
            <a:ext cx="22860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03916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Kako potek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iskovalec se postavi v posebno sobo ki jo razsvetljuje en sam snop svetlobe kjer ga odčita svetlobni žarek iz infrardeče kamere ki analizira podob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ces prepoznave traja približno deset seku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stem obdela podatke in ustvari tri-dimenzionalni predmet v obliki tekočega, prozornega telesa in ga projicira na veliki zasl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irror" descr=""/>
          <p:cNvPicPr/>
          <p:nvPr/>
        </p:nvPicPr>
        <p:blipFill>
          <a:blip r:embed="rId1"/>
          <a:stretch/>
        </p:blipFill>
        <p:spPr>
          <a:xfrm>
            <a:off x="1547640" y="530280"/>
            <a:ext cx="583272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2637000"/>
            <a:ext cx="3889440" cy="3659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43923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62040" y="62064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rvna struktura predmeta je izraz opisa karakter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če obiskovalec stoji bliže velikega zaslona, večja je virtualna podoba in ima tudi več energij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1" name="user2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2655720" cy="2879640"/>
          </a:xfrm>
          <a:prstGeom prst="rect">
            <a:avLst/>
          </a:prstGeom>
          <a:ln w="0">
            <a:noFill/>
          </a:ln>
        </p:spPr>
      </p:pic>
      <p:pic>
        <p:nvPicPr>
          <p:cNvPr id="142" name="user1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2519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77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VIRTUALNA REALNOST  CYBERSPHER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ačunalniško virtualno okolje s katerim upravlja uporabni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elika, prazna, prozorna krogla premera 3,5 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orabnik vstopi v kroglo in ko se začne premikati, se      le-ta začne vrteti in obračati v vse smer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ačunalniške podobe se na podlagi premikov projicirajo na zunanjo steno krogl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orabnik lahko hodi, teče, skače ali se plazi v katero koli smer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Cybersphere graphic"/>
          <p:cNvPicPr/>
          <p:nvPr/>
        </p:nvPicPr>
        <p:blipFill>
          <a:blip r:embed="rId1"/>
          <a:stretch/>
        </p:blipFill>
        <p:spPr>
          <a:xfrm>
            <a:off x="468360" y="549360"/>
            <a:ext cx="4103640" cy="3074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Cybersphere projection"/>
          <p:cNvPicPr/>
          <p:nvPr/>
        </p:nvPicPr>
        <p:blipFill>
          <a:blip r:embed="rId2"/>
          <a:stretch/>
        </p:blipFill>
        <p:spPr>
          <a:xfrm>
            <a:off x="4098960" y="3186000"/>
            <a:ext cx="407340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883800"/>
            <a:ext cx="830736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ako človeško telo deluje kot mutimedij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7678800" cy="38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ib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nazarjanj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nično – virtualn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zražanje medijev s teles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metnost (projekti, predstave, uprizoritv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VIRTUAL YOU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jekt je namenjen ustvarjanju virtualnega se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ilj – razviti natančne tri-dimenzionalne virtualne podobe pravih ljudi v virtualnem svet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i-dimenzionalne podobe so narejene tako da se iz digitalnih fotografij odčita struktura telesa in obraz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oraba virtualnega sebe je izredna priložnost uiti vsakdanjemu resničnemu svetu v svet fantazije in domišljij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YEC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500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yeCon je program, ustvarjen za pospeševanje interaktivnih predstav ki vključujejo gibanje človeškega teles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gram za to uporablja drug medij kot npr. video kamer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ko kamere, ki pošlje signal v računalnik se podoba prikaže na zaslonu, nanjo lahko rišemo črte, polja in druge element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o se potem oseba na posnetku premakne in se dotakne enega izmed elementov ki smo jih narisali lahko to sproži zvok ali video animacij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2643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MART CHAIR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judje načeloma zelo veliko časa preživimo sede, na stolu – v pisarni, v avtu, doma pred televizij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zato so strokovnjaki Media Lab-a zasnovali tako imenovani projekt pametni stol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k stol naj bi se zavedal uporabnikovih navad – položaja sedenja in gibanj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udil naj bi popolno udobje uporabniku, vključno z nekaj dobrodošlimi funkcijam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malu naj bi sledili še drugi projekti kot so pametna miza, pametne sobe in pametna oblačil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OBNARS UNITED - "</a:t>
            </a:r>
            <a:r>
              <a:rPr b="0" lang="en-US" sz="3600" spc="-1" strike="noStrike" u="sng">
                <a:solidFill>
                  <a:srgbClr val="cc3300"/>
                </a:solidFill>
                <a:uFillTx/>
                <a:latin typeface="Times New Roman"/>
                <a:hlinkClick r:id="rId1"/>
              </a:rPr>
              <a:t>BUmBUs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"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04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Bobnars United je skupina sedmih bobnark in bobnarjev ki prenaša izročila afriške in drugih kultur skozi glasbo in ples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BUmBUs</a:t>
            </a:r>
            <a:r>
              <a:rPr b="0" lang="en-US" sz="2200" spc="-1" strike="noStrike" u="sng">
                <a:solidFill>
                  <a:srgbClr val="eaeaea"/>
                </a:solidFill>
                <a:uFillTx/>
                <a:latin typeface="Times New Roman"/>
              </a:rPr>
              <a:t> je mutimedialni eksperimentalni projekt za gluhe in naglušne s katerim želijo skozi bobnanje in elektronske ter vizualne medije ustvariti novo, večmedijsko izkušnjo ritmično razgibanega prostora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projekt je zastavljen s poudarkom na interaktivnosti in večzaznavni komunikaciji ter osredotočen na prednosti giba kot primarnega medija gluhih in naglušnih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plesna animacija, hkratno posredovanje ritma skozi elektronske vizualije (video, animacija) kot tudi izkušnja vibracije v prostoru s pomočjo predmetov (npr. baloni), zvočil in lastnega telesa se zlijejo v celovito doživetje ritma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166920" cy="2387520"/>
          </a:xfrm>
          <a:prstGeom prst="rect">
            <a:avLst/>
          </a:prstGeom>
          <a:ln w="0">
            <a:noFill/>
          </a:ln>
        </p:spPr>
      </p:pic>
      <p:pic>
        <p:nvPicPr>
          <p:cNvPr id="157" name="tn65-kebend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2205000"/>
            <a:ext cx="2562480" cy="2592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364000" y="4365720"/>
            <a:ext cx="28814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snetek s koncerta Bobnars Uni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219640" y="2349360"/>
          <a:ext cx="2249640" cy="13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349360"/>
                    <a:ext cx="224964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234280" cy="14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sl-SI" sz="3200" spc="-1" strike="noStrike">
                <a:solidFill>
                  <a:srgbClr val="ffffcc"/>
                </a:solidFill>
                <a:latin typeface="Times New Roman"/>
              </a:rPr>
              <a:t>Johannes Birringer: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"</a:t>
            </a:r>
            <a:r>
              <a:rPr b="0" lang="sl-SI" sz="3800" spc="-1" strike="noStrike">
                <a:solidFill>
                  <a:srgbClr val="ffffcc"/>
                </a:solidFill>
                <a:latin typeface="Times New Roman"/>
              </a:rPr>
              <a:t>ENVIRONMENTS</a:t>
            </a:r>
            <a:r>
              <a:rPr b="0" lang="en-US" sz="3800" spc="-1" strike="noStrike">
                <a:solidFill>
                  <a:srgbClr val="ffffcc"/>
                </a:solidFill>
                <a:latin typeface="Times New Roman"/>
                <a:ea typeface="Arial"/>
              </a:rPr>
              <a:t>"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7149960" cy="24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eden najbolj znanih medijskih koreografov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sklop plesnih projektov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“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nvironment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“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združevan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4360" y="3933720"/>
            <a:ext cx="6408720" cy="23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lesne predstave            - prostorski koncep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ehnologije                    - interaktivni sistem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 giban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 animaci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823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"ENVIRONMENTS" – THE KNO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782316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dstav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št. XII v sklopu glasbeno - plesnih 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pisuje objekte poželenja in hrepenenja ki so ujeti v virtualnem svetu, prikazanem na projekcijah v ozadj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dostopni, deležni velike mere fantaziranja in sanjarjen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627280" y="4292640"/>
            <a:ext cx="3384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61680" y="620640"/>
            <a:ext cx="38098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ratek odlomek iz predstave THE K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24200" y="691920"/>
            <a:ext cx="38098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cc"/>
                </a:solidFill>
                <a:latin typeface="Times New Roman"/>
              </a:rPr>
              <a:t>Ohio State University</a:t>
            </a:r>
            <a:br>
              <a:rPr sz="2800"/>
            </a:br>
            <a:r>
              <a:rPr b="0" lang="sl-SI" sz="3400" spc="-1" strike="noStrike">
                <a:solidFill>
                  <a:srgbClr val="ffffcc"/>
                </a:solidFill>
                <a:latin typeface="Times New Roman"/>
              </a:rPr>
              <a:t>MULTICULTURAL DANCE ALLIANCE</a:t>
            </a:r>
            <a:r>
              <a:rPr b="0" lang="sl-SI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študentska organizaci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 svojimi projekti skozi razne umetnostne oblike kot so ples in glasba predstavlja bogato kulturno raznoliko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zija – privzdigniti afriške in azijske plesne oblike na višjo umetniško rav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4292640"/>
            <a:ext cx="2781360" cy="1752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932360" y="4292640"/>
            <a:ext cx="25192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Random Dance - ALPH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4608360" cy="45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pha je skupina desetih plesalcev ki ustvarja projekte in predstave, namenjene predvsem otrokom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sredotočenost na nove plesne tehnologi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der – virtualno svetišč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združevanje plesa s tehnologijami animacije, digitalnega filma, razsvetljave in elektronske glas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25815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PH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24200" y="980640"/>
            <a:ext cx="380988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OMPANY IN SPACE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135640" cy="43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kupina umetnikov iz Melbourn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vajanje novih in drugačnih tehnologij giban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vokativne predstave – dialogi med vidnim, slušnim in dinamičnim zaznavanj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 eni predstavi več medijev – gibi človeških teles, video in interaktivni virtualni pros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03640" y="4076640"/>
            <a:ext cx="33148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20:09:00Z</dcterms:created>
  <dc:creator>NEMESIS 3 SLO</dc:creator>
  <dc:description/>
  <dc:language>en-US</dc:language>
  <cp:lastModifiedBy>NEMESIS 3 SLO</cp:lastModifiedBy>
  <dcterms:modified xsi:type="dcterms:W3CDTF">2006-02-05T19:48:27Z</dcterms:modified>
  <cp:revision>8</cp:revision>
  <dc:subject/>
  <dc:title>ČLOVEŠKO TELO KOT MULTIMEDIJ</dc:title>
</cp:coreProperties>
</file>