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E25-FF36-437A-9B07-D89694DB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9CF-E0DB-481A-BC2F-23C399CD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527-62A2-4E29-B8EF-6AFFB1DA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F41-BEB0-4009-BA55-39CA60DC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E386-68D1-4E1B-AAE9-8F7CF6C1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D8C6-0499-485C-A4DC-4EBE5E56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3624-FFDA-4F01-AB84-669D3A4A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6736-4249-4702-94A4-7A72846D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532F-3419-44A8-882E-83BD37F1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0EAE-08DC-42FD-A0AA-B61012F3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5056-470E-43B0-BB2B-5EDA6BE9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95A-02BC-431D-AE7E-3409A81E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307D-64C9-4E6A-9FEF-216447C2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AFD0-3BC6-4CE6-A4BC-9840474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A02F-6F3F-4111-A77B-70210CBB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4CED-69D5-461E-A92C-736FB150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F5F2-8D85-474B-807A-CF7BE538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127-BB6E-43A9-8949-757B8590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B5E-A3B5-4D8F-ADA0-DB4F7FFB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05A-2737-4FF6-B115-14EC6334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B21-1C4D-4FEB-BA55-7EE71A32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0D6-8D59-4AE6-BF21-EDC9B31D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90D-29B1-4FFD-A512-CB22B3DD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33B-06DC-44AA-AE01-7060A05F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45360"/>
            <a:ext cx="289584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45360"/>
            <a:ext cx="19051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5E64-395A-420C-B752-2F09FB67D14D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996633"/>
            </a:gs>
            <a:gs pos="100000">
              <a:srgbClr val="271a0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9966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0DC8-6141-4E81-B23D-A38DDF9F88DA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kud-bu.si/bumbus" TargetMode="External"/><Relationship Id="rId2" Type="http://schemas.openxmlformats.org/officeDocument/2006/relationships/hyperlink" Target="http://kud-bu.si/bumbus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kud-bu.si/bumbus/foto/premiera/imagepages/image12.htm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811760"/>
            <a:ext cx="77738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ČLOVEŠKO TELO KOT MULTIMEDIJ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insert iz predstav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Light Ro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242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VIRTUALCOR PROJE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592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rtualni projekt za podaljševanje živl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nos podatkov v si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 virtualnim zamrzovalnikom se s posebno metodo zamrzovanja telo pripravi na virtualno posteklitev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reminjanje strukture tel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green_body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30328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FURMINA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virtualni aparat za fliper ki igralca ponese v središče dogajanja – na igralno površi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glava v kapsuli apar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vočni in virtualni efekti dajejo igralcu občutek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tro-dimenzional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1971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MIRROR SPACE – VIRTUALNI ODSEV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ksplozija sam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dsevov v katerem je oseb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dna kot sklop celotnega bit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omrežju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činki in objekti preoblikovani v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objek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svoje podo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oblikovanje celične struk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2860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391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Kako potek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iskovalec se postavi v posebno sobo ki jo razsvetljuje en sam snop svetlobe kjer ga odčita svetlobni žarek iz infrardeče kamere ki analizira podob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 prepoznave traja približno deset sek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stem obdela podatke in ustvari tri-dimenzionalni predmet v obliki tekočega, prozornega telesa in ga projicira na veliki zas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irror" descr=""/>
          <p:cNvPicPr/>
          <p:nvPr/>
        </p:nvPicPr>
        <p:blipFill>
          <a:blip r:embed="rId1"/>
          <a:stretch/>
        </p:blipFill>
        <p:spPr>
          <a:xfrm>
            <a:off x="1547640" y="530280"/>
            <a:ext cx="58327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889440" cy="3659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392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vna struktura predmeta je izraz opisa karakter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če obiskovalec stoji bliže velikega zaslona, večja je virtualna podoba in ima tudi več energi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user2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6557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user1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2519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NA REALNOST  CYBERSPHE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o virtualno okolje s katerim upravlja uporab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lika, prazna, prozorna krogla premera 3,5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vstopi v kroglo in ko se začne premikati, se      le-ta začne vrteti in obračati v vse smer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čunalniške podobe se na podlagi premikov projicirajo na zunanjo steno krog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nik lahko hodi, teče, skače ali se plazi v katero koli sm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Cybersphere graphic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Cybersphere projection"/>
          <p:cNvPicPr/>
          <p:nvPr/>
        </p:nvPicPr>
        <p:blipFill>
          <a:blip r:embed="rId2"/>
          <a:stretch/>
        </p:blipFill>
        <p:spPr>
          <a:xfrm>
            <a:off x="4098960" y="3186000"/>
            <a:ext cx="40734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883800"/>
            <a:ext cx="8307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ko človeško telo deluje kot mutimedij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788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nazarjanj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nično – virtualn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zražanje medijev s teles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metnost (projekti, predstave, uprizoritv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IRTUAL YO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jekt je namenjen ustvarjanju virtualnega se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lj – razviti natančne tri-dimenzionalne virtualne podobe pravih ljudi v virtualnem svet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i-dimenzionalne podobe so narejene tako da se iz digitalnih fotografij odčita struktura telesa in obraz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raba virtualnega sebe je izredna priložnost uiti vsakdanjemu resničnemu svetu v svet fantazije in domišljij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YEC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500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yeCon je program, ustvarjen za pospeševanje interaktivnih predstav ki vključujejo gibanje človeškega teles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 za to uporablja drug medij kot npr. video kam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ko kamere, ki pošlje signal v računalnik se podoba prikaže na zaslonu, nanjo lahko rišemo črte, polja in druge elem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 se potem oseba na posnetku premakne in se dotakne enega izmed elementov ki smo jih narisali lahko to sproži zvok ali video animacij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MART CHAIR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judje načeloma zelo veliko časa preživimo sede, na stolu – v pisarni, v avtu, doma pred televizij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ato so strokovnjaki Media Lab-a zasnovali tako imenovani projekt pametni stol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 stol naj bi se zavedal uporabnikovih navad – položaja sedenja in gibanj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dil naj bi popolno udobje uporabniku, vključno z nekaj dobrodošlimi funkcija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malu naj bi sledili še drugi projekti kot so pametna miza, pametne sobe in pametna oblačil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BNARS UNITED - "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  <a:hlinkClick r:id="rId1"/>
              </a:rPr>
              <a:t>BUmBUs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"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obnars United je skupina sedmih bobnark in bobnarjev ki prenaša izročila afriške in drugih kultur skozi glasbo in pl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BUmBUs</a:t>
            </a:r>
            <a:r>
              <a:rPr b="0" lang="en-US" sz="2200" spc="-1" strike="noStrike" u="sng">
                <a:solidFill>
                  <a:srgbClr val="eaeaea"/>
                </a:solidFill>
                <a:uFillTx/>
                <a:latin typeface="Times New Roman"/>
              </a:rPr>
              <a:t> je mutimedialni eksperimentalni projekt za gluhe in naglušne s katerim želijo skozi bobnanje in elektronske ter vizualne medije ustvariti novo, večmedijsko izkušnjo ritmično razgibanega prostora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rojekt je zastavljen s poudarkom na interaktivnosti in večzaznavni komunikaciji ter osredotočen na prednosti giba kot primarnega medija gluhih in naglušnih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plesna animacija, hkratno posredovanje ritma skozi elektronske vizualije (video, animacija) kot tudi izkušnja vibracije v prostoru s pomočjo predmetov (npr. baloni), zvočil in lastnega telesa se zlijejo v celovito doživetje ritma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66920" cy="2387520"/>
          </a:xfrm>
          <a:prstGeom prst="rect">
            <a:avLst/>
          </a:prstGeom>
          <a:ln w="0">
            <a:noFill/>
          </a:ln>
        </p:spPr>
      </p:pic>
      <p:pic>
        <p:nvPicPr>
          <p:cNvPr id="157" name="tn65-kebend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205000"/>
            <a:ext cx="2562480" cy="25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64000" y="4365720"/>
            <a:ext cx="2881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netek s koncerta Bobnars Uni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19640" y="2349360"/>
          <a:ext cx="224964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349360"/>
                    <a:ext cx="224964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34280" cy="14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l-SI" sz="3200" spc="-1" strike="noStrike">
                <a:solidFill>
                  <a:srgbClr val="ffffcc"/>
                </a:solidFill>
                <a:latin typeface="Times New Roman"/>
              </a:rPr>
              <a:t>Johannes Birringer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r>
              <a:rPr b="0" lang="sl-SI" sz="3800" spc="-1" strike="noStrike">
                <a:solidFill>
                  <a:srgbClr val="ffffcc"/>
                </a:solidFill>
                <a:latin typeface="Times New Roman"/>
              </a:rPr>
              <a:t>ENVIRONMENTS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  <a:ea typeface="Arial"/>
              </a:rPr>
              <a:t>"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714996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eden najbolj znanih medijskih koreografo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sklop plesnih projektov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vironmen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združev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4360" y="3933720"/>
            <a:ext cx="640872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sne predstave            - prostorski k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hnologije                    - interaktivni sistem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giban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anim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23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"ENVIRONMENTS" – THE KNO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231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dstav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. XII v sklopu glasbeno - plesnih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isuje objekte poželenja in hrepenenja ki so ujeti v virtualnem svetu, prikazanem na projekcijah v ozadj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dostopni, deležni velike mere fantaziranja in sanjarje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384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61680" y="620640"/>
            <a:ext cx="38098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ratek odlomek iz predstave THE K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24200" y="691920"/>
            <a:ext cx="3809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cc"/>
                </a:solidFill>
                <a:latin typeface="Times New Roman"/>
              </a:rPr>
              <a:t>Ohio State University</a:t>
            </a:r>
            <a:br>
              <a:rPr sz="2800"/>
            </a:br>
            <a:r>
              <a:rPr b="0" lang="sl-SI" sz="3400" spc="-1" strike="noStrike">
                <a:solidFill>
                  <a:srgbClr val="ffffcc"/>
                </a:solidFill>
                <a:latin typeface="Times New Roman"/>
              </a:rPr>
              <a:t>MULTICULTURAL DANCE ALLIANCE</a:t>
            </a:r>
            <a:r>
              <a:rPr b="0" lang="sl-SI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študentska organizaci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 svojimi projekti skozi razne umetnostne oblike kot so ples in glasba predstavlja bogato kulturno raznolik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zija – privzdigniti afriške in azijske plesne oblike na višjo umetniško rav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4292640"/>
            <a:ext cx="2781360" cy="17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dom Dance - ALPH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60836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je skupina desetih plesalcev ki ustvarja projekte in predstave, namenjene predvsem otrok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sredotočenost na nove plesne tehnologi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er – virtualno svetišč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združevanje plesa s tehnologijami animacije, digitalnega filma, razsvetljave in elektronske glas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5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PH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24200" y="980640"/>
            <a:ext cx="3809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5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PANY IN SPACE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1356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upina umetnikov iz Melbour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vajanje novih in drugačnih tehnologij giba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okativne predstave – dialogi med vidnim, slušnim in dinamičnim zaznavanj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 eni predstavi več medijev – gibi človeških teles, video in interaktivni virtualni pros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314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0:09:00Z</dcterms:created>
  <dc:creator>NEMESIS 3 SLO</dc:creator>
  <dc:description/>
  <dc:language>en-US</dc:language>
  <cp:lastModifiedBy>NEMESIS 3 SLO</cp:lastModifiedBy>
  <dcterms:modified xsi:type="dcterms:W3CDTF">2006-02-05T19:48:27Z</dcterms:modified>
  <cp:revision>8</cp:revision>
  <dc:subject/>
  <dc:title>ČLOVEŠKO TELO KOT MULTIMEDIJ</dc:title>
</cp:coreProperties>
</file>