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C26-B449-49AC-94F5-C225768F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FF8-D30E-44BD-BB40-11706DD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740-2B40-449E-8E41-A529D2B6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A6F-B940-493B-B544-6BA1D96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9C6B-6E4F-4567-8152-F132CDF8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6F3-8201-46DB-B2A2-1A5E9476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D1A-BE07-451F-87E9-EF9D29E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862-3FB2-4938-8146-5A42E86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903A-7425-4182-85BC-81EA0CBB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1C90-EE5C-47CB-8985-D0F0F2C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C594-FF36-4A89-8621-AF53612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451-2704-4795-A05A-ADBACA7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62E-9B19-400D-AA3C-D023FBA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8670-B444-4863-BCFE-43744C7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838A-771D-4748-8BEF-6E9F44C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20F-A132-4A5E-AAF4-36467D1A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7A1-E76A-40E7-BD9D-9893F88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847-908F-4C7B-A4B6-C3E405B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892-5154-470C-B79B-9F59D01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3FB-F584-4FDD-A954-E41CA81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C9C-3E4B-4D71-B0A5-D52BFEA9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3D1-1780-4282-BD7A-818D608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0D0-13FB-4489-BBFA-8B1F027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0EA-E467-4890-BF75-7A731F9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068-F41A-469B-966F-CA98C2F732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7F61-A098-45C5-BA77-912EF1A73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a-forum.si/slo/pokrajin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c0000"/>
                </a:solidFill>
                <a:latin typeface="Arial Black"/>
              </a:rPr>
              <a:t>Časopis kot medij</a:t>
            </a: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opis,televizija in radio, so najpogostejši in najučinkovitejši prenašalec informaci ali med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tisku se tiska z plat formami in poznamo več vrst tika:-visok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globo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ropust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plo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Dodel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rezejo in znesejo pole v časopis in nato, se jih šiva ali vež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ato imamo:-rezalne st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deklšerje ali lepenčne škar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zlag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izsekovalni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Časop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Časopisi po pokrajin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iprav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ha Hrže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Kako nastane časopis in čla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redništvo:  -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grafična ob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skarna:     -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-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š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LEK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URED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GRAFIČNI OBDELOV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PRI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Lek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gleda (popravlja) rokopise,članke,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ede na jezikovno pravilnost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Ured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Uredniku ali redaktor, je strokovnjak ki pripravi tematsko zaokrožen del časopisa,revije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lavni urednik je človek, ki skrbi za celoten program, javno in pravno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Grafično obdelova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obdelujejo slike. Najpogostejši programi so PhotoShop, CorelDraw,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Pri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u se pripravi ves material,to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s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te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Tiska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REPROGRA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T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DODE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0000"/>
                </a:solidFill>
                <a:latin typeface="Arial Black"/>
              </a:rPr>
              <a:t>Reprograf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 reprografiji se postavi položaje slik in teksta, vecino tega se naredi v CorelDraw progr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3:15:29Z</dcterms:created>
  <dc:creator>Miha Hamster Hrženjak</dc:creator>
  <dc:description/>
  <dc:language>en-US</dc:language>
  <cp:lastModifiedBy>Miha Hamster Hrženjak</cp:lastModifiedBy>
  <dcterms:modified xsi:type="dcterms:W3CDTF">2005-12-08T15:51:05Z</dcterms:modified>
  <cp:revision>6</cp:revision>
  <dc:subject/>
  <dc:title>Časopis kot medij </dc:title>
</cp:coreProperties>
</file>