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23.wmf" ContentType="image/x-wmf"/>
  <Override PartName="/ppt/media/image8.png" ContentType="image/png"/>
  <Override PartName="/ppt/media/image14.jpeg" ContentType="image/jpeg"/>
  <Override PartName="/ppt/media/image7.png" ContentType="image/png"/>
  <Override PartName="/ppt/media/image22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7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26665-6512-4C09-9BAA-4B73534A6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EFF8A-D72D-471C-BEBF-93B57EDE3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89B5E-E2B0-4D02-8692-31613B15B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9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62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9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17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2888B-0EAF-492F-A0F2-7D1A8E8A9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1F9C6-FF7C-42BE-8359-CE4105083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46B9E-70A3-4B6D-BC28-33428B911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B6EF2-6C4C-4AC8-A8CC-12EF458C6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F2B6F-AC51-4239-B08E-A6F13E8D5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43EE3-D049-4B1F-B1E7-12304FACC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DA8BE-86FF-4690-AFBA-7E59A2E28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C0A59-F178-4A76-9895-A2B1DDA82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68C11-2DB1-4FF2-8536-0F6FB9F99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303CF-32DF-428A-9CA6-1631E8223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4D81B-7403-4399-AACE-ECCF090BB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622B2-B6F3-47A3-A577-2FFE37517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E48C8-D6C7-42BD-807B-83797F15E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9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662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9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917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13CB2-12EA-4283-9C29-75E8059BE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3AEFF-08F7-40FD-8B48-1C0A85483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139AC-0E85-4B33-8C9B-733BFBF65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BC67C-ECA9-4A97-8C04-364A19F09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87103-2C84-480A-B4B0-E2B7AA165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F6BBE-1A42-4D35-8800-7C335A995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E3A9A-5A46-4298-8D8C-7C32F4C17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F61AE-7A76-4D8B-8267-3B6363AFF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752480" cy="6856560"/>
          </a:xfrm>
          <a:prstGeom prst="rect">
            <a:avLst/>
          </a:prstGeom>
          <a:gradFill rotWithShape="0">
            <a:gsLst>
              <a:gs pos="0">
                <a:srgbClr val="271a0d"/>
              </a:gs>
              <a:gs pos="50000">
                <a:srgbClr val="996633"/>
              </a:gs>
              <a:gs pos="100000">
                <a:srgbClr val="271a0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152280" y="374760"/>
            <a:ext cx="1525680" cy="1226880"/>
            <a:chOff x="152280" y="374760"/>
            <a:chExt cx="1525680" cy="1226880"/>
          </a:xfrm>
        </p:grpSpPr>
        <p:sp>
          <p:nvSpPr>
            <p:cNvPr id="2" name=""/>
            <p:cNvSpPr/>
            <p:nvPr/>
          </p:nvSpPr>
          <p:spPr>
            <a:xfrm>
              <a:off x="1171440" y="7858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318" y="198"/>
                  </a:moveTo>
                  <a:lnTo>
                    <a:pt x="318" y="318"/>
                  </a:lnTo>
                  <a:lnTo>
                    <a:pt x="1" y="99"/>
                  </a:lnTo>
                  <a:lnTo>
                    <a:pt x="0" y="108"/>
                  </a:lnTo>
                  <a:lnTo>
                    <a:pt x="46" y="0"/>
                  </a:lnTo>
                  <a:lnTo>
                    <a:pt x="318" y="198"/>
                  </a:lnTo>
                </a:path>
              </a:pathLst>
            </a:custGeom>
            <a:gradFill rotWithShape="0">
              <a:gsLst>
                <a:gs pos="0">
                  <a:srgbClr val="996633"/>
                </a:gs>
                <a:gs pos="100000">
                  <a:srgbClr val="271a0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52280" y="7858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271a0d"/>
                </a:gs>
                <a:gs pos="100000">
                  <a:srgbClr val="9966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240480" y="374760"/>
              <a:ext cx="1307160" cy="1226880"/>
              <a:chOff x="240480" y="374760"/>
              <a:chExt cx="1307160" cy="122688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40120" y="374760"/>
                <a:ext cx="1305000" cy="122544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41200" y="374760"/>
                <a:ext cx="654120" cy="122688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1200" y="374760"/>
                <a:ext cx="1306440" cy="12204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93880" y="374760"/>
                <a:ext cx="653760" cy="122688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152280" y="1117440"/>
              <a:ext cx="1522440" cy="173160"/>
            </a:xfrm>
            <a:prstGeom prst="rect">
              <a:avLst/>
            </a:prstGeom>
            <a:gradFill rotWithShape="0">
              <a:gsLst>
                <a:gs pos="0">
                  <a:srgbClr val="271a0d"/>
                </a:gs>
                <a:gs pos="50000">
                  <a:srgbClr val="ca9561"/>
                </a:gs>
                <a:gs pos="100000">
                  <a:srgbClr val="271a0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85800" y="6345360"/>
            <a:ext cx="1905120" cy="511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124080" y="6345360"/>
            <a:ext cx="2895840" cy="511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6553080" y="6345360"/>
            <a:ext cx="1905120" cy="511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D5ED6-B2C0-4AB8-9B09-F67843CC41DC}" type="slidenum">
              <a:rPr b="0" lang="sl-SI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71a0d"/>
            </a:gs>
            <a:gs pos="50000">
              <a:srgbClr val="996633"/>
            </a:gs>
            <a:gs pos="100000">
              <a:srgbClr val="271a0d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895480" y="0"/>
            <a:ext cx="3353040" cy="6856560"/>
          </a:xfrm>
          <a:prstGeom prst="rect">
            <a:avLst/>
          </a:prstGeom>
          <a:gradFill rotWithShape="0">
            <a:gsLst>
              <a:gs pos="0">
                <a:srgbClr val="271a0d"/>
              </a:gs>
              <a:gs pos="50000">
                <a:srgbClr val="996633"/>
              </a:gs>
              <a:gs pos="100000">
                <a:srgbClr val="271a0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2133720" y="472680"/>
            <a:ext cx="4878360" cy="3491280"/>
            <a:chOff x="2133720" y="472680"/>
            <a:chExt cx="4878360" cy="3491280"/>
          </a:xfrm>
        </p:grpSpPr>
        <p:sp>
          <p:nvSpPr>
            <p:cNvPr id="53" name=""/>
            <p:cNvSpPr/>
            <p:nvPr/>
          </p:nvSpPr>
          <p:spPr>
            <a:xfrm>
              <a:off x="2133720" y="1643040"/>
              <a:ext cx="1617480" cy="1440000"/>
            </a:xfrm>
            <a:custGeom>
              <a:avLst/>
              <a:gdLst/>
              <a:ahLst/>
              <a:rect l="l" t="t" r="r" b="b"/>
              <a:pathLst>
                <a:path w="1019" h="907">
                  <a:moveTo>
                    <a:pt x="0" y="566"/>
                  </a:moveTo>
                  <a:lnTo>
                    <a:pt x="0" y="906"/>
                  </a:lnTo>
                  <a:lnTo>
                    <a:pt x="1014" y="283"/>
                  </a:lnTo>
                  <a:lnTo>
                    <a:pt x="1018" y="307"/>
                  </a:lnTo>
                  <a:lnTo>
                    <a:pt x="869" y="0"/>
                  </a:lnTo>
                  <a:lnTo>
                    <a:pt x="0" y="566"/>
                  </a:lnTo>
                </a:path>
              </a:pathLst>
            </a:custGeom>
            <a:gradFill rotWithShape="0">
              <a:gsLst>
                <a:gs pos="0">
                  <a:srgbClr val="271a0d"/>
                </a:gs>
                <a:gs pos="100000">
                  <a:srgbClr val="9966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394240" y="1643040"/>
              <a:ext cx="1617840" cy="1440000"/>
            </a:xfrm>
            <a:custGeom>
              <a:avLst/>
              <a:gdLst/>
              <a:ahLst/>
              <a:rect l="l" t="t" r="r" b="b"/>
              <a:pathLst>
                <a:path w="1019" h="907">
                  <a:moveTo>
                    <a:pt x="1018" y="566"/>
                  </a:moveTo>
                  <a:lnTo>
                    <a:pt x="1018" y="906"/>
                  </a:lnTo>
                  <a:lnTo>
                    <a:pt x="3" y="283"/>
                  </a:lnTo>
                  <a:lnTo>
                    <a:pt x="0" y="307"/>
                  </a:lnTo>
                  <a:lnTo>
                    <a:pt x="148" y="0"/>
                  </a:lnTo>
                  <a:lnTo>
                    <a:pt x="1018" y="566"/>
                  </a:lnTo>
                </a:path>
              </a:pathLst>
            </a:custGeom>
            <a:gradFill rotWithShape="0">
              <a:gsLst>
                <a:gs pos="0">
                  <a:srgbClr val="996633"/>
                </a:gs>
                <a:gs pos="100000">
                  <a:srgbClr val="271a0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2494080" y="472680"/>
              <a:ext cx="4178160" cy="3491280"/>
              <a:chOff x="2494080" y="472680"/>
              <a:chExt cx="4178160" cy="3491280"/>
            </a:xfrm>
          </p:grpSpPr>
          <p:sp>
            <p:nvSpPr>
              <p:cNvPr id="56" name=""/>
              <p:cNvSpPr/>
              <p:nvPr/>
            </p:nvSpPr>
            <p:spPr>
              <a:xfrm flipH="1" rot="10800000">
                <a:off x="2494080" y="472680"/>
                <a:ext cx="4176720" cy="348948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2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494080" y="473040"/>
                <a:ext cx="2089080" cy="3490920"/>
              </a:xfrm>
              <a:custGeom>
                <a:avLst/>
                <a:gdLst/>
                <a:ahLst/>
                <a:rect l="l" t="t" r="r" b="b"/>
                <a:pathLst>
                  <a:path w="1316" h="2199">
                    <a:moveTo>
                      <a:pt x="1315" y="2198"/>
                    </a:moveTo>
                    <a:lnTo>
                      <a:pt x="1315" y="1815"/>
                    </a:lnTo>
                    <a:lnTo>
                      <a:pt x="409" y="214"/>
                    </a:lnTo>
                    <a:lnTo>
                      <a:pt x="0" y="0"/>
                    </a:lnTo>
                    <a:lnTo>
                      <a:pt x="1315" y="2198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494080" y="473040"/>
                <a:ext cx="4178160" cy="34452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4581360" y="473040"/>
                <a:ext cx="2090880" cy="349092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60" name=""/>
            <p:cNvSpPr/>
            <p:nvPr/>
          </p:nvSpPr>
          <p:spPr>
            <a:xfrm>
              <a:off x="2133720" y="2589120"/>
              <a:ext cx="4871880" cy="492120"/>
            </a:xfrm>
            <a:prstGeom prst="rect">
              <a:avLst/>
            </a:prstGeom>
            <a:gradFill rotWithShape="0">
              <a:gsLst>
                <a:gs pos="0">
                  <a:srgbClr val="271a0d"/>
                </a:gs>
                <a:gs pos="50000">
                  <a:srgbClr val="ca9561"/>
                </a:gs>
                <a:gs pos="100000">
                  <a:srgbClr val="271a0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dt" idx="4"/>
          </p:nvPr>
        </p:nvSpPr>
        <p:spPr>
          <a:xfrm>
            <a:off x="685800" y="0"/>
            <a:ext cx="1905120" cy="512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ftr" idx="5"/>
          </p:nvPr>
        </p:nvSpPr>
        <p:spPr>
          <a:xfrm>
            <a:off x="3124080" y="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sldNum" idx="6"/>
          </p:nvPr>
        </p:nvSpPr>
        <p:spPr>
          <a:xfrm>
            <a:off x="6553080" y="0"/>
            <a:ext cx="1905120" cy="512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42D35-8E79-4D44-A668-EF37B79DC0A6}" type="slidenum">
              <a:rPr b="0" lang="sl-SI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kud-bu.si/bumbus" TargetMode="External"/><Relationship Id="rId2" Type="http://schemas.openxmlformats.org/officeDocument/2006/relationships/hyperlink" Target="http://kud-bu.si/bumbus" TargetMode="External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hyperlink" Target="http://www.kud-bu.si/bumbus/foto/premiera/imagepages/image12.htm" TargetMode="External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4360" y="4811760"/>
            <a:ext cx="7773840" cy="43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ČLOVEŠKO TELO KOT MULTIMEDIJ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cc66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66168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l-SI" sz="2800" spc="-1" strike="noStrike">
                <a:solidFill>
                  <a:srgbClr val="eaeaea"/>
                </a:solidFill>
                <a:latin typeface="Times New Roman"/>
              </a:rPr>
              <a:t>insert iz predstave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“</a:t>
            </a:r>
            <a:r>
              <a:rPr b="0" lang="sl-SI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The Light Room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4624200" y="190512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cc66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4360" y="228600"/>
            <a:ext cx="777528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THE VIRTUALCOR PROJECT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61680" y="1905120"/>
            <a:ext cx="5925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virtualni projekt za podaljševanje življenj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vnos podatkov v sistem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z virtualnim zamrzovalnikom se s posebno metodo zamrzovanja telo pripravi na virtualno posteklitev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preminjanje strukture teles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29" name="green_body" descr=""/>
          <p:cNvPicPr/>
          <p:nvPr/>
        </p:nvPicPr>
        <p:blipFill>
          <a:blip r:embed="rId1"/>
          <a:stretch/>
        </p:blipFill>
        <p:spPr>
          <a:xfrm>
            <a:off x="6156360" y="3860640"/>
            <a:ext cx="2303280" cy="219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cc66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10920" y="188640"/>
            <a:ext cx="777708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THE FURMINATOR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62040" y="1557360"/>
            <a:ext cx="7772400" cy="446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l-SI" sz="2400" spc="-1" strike="noStrike">
                <a:solidFill>
                  <a:srgbClr val="eaeaea"/>
                </a:solidFill>
                <a:latin typeface="Times New Roman"/>
              </a:rPr>
              <a:t>virtualni aparat za fliper ki igralca ponese v središče dogajanja – na igralno površin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l-SI" sz="2400" spc="-1" strike="noStrike">
                <a:solidFill>
                  <a:srgbClr val="eaeaea"/>
                </a:solidFill>
                <a:latin typeface="Times New Roman"/>
              </a:rPr>
              <a:t>glava v kapsuli aparat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l-SI" sz="2400" spc="-1" strike="noStrike">
                <a:solidFill>
                  <a:srgbClr val="eaeaea"/>
                </a:solidFill>
                <a:latin typeface="Times New Roman"/>
              </a:rPr>
              <a:t>zvočni in virtualni efekti dajejo igralcu občutek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eaeaea"/>
                </a:solidFill>
                <a:latin typeface="Times New Roman"/>
              </a:rPr>
              <a:t>     </a:t>
            </a:r>
            <a:r>
              <a:rPr b="0" lang="sl-SI" sz="2400" spc="-1" strike="noStrike">
                <a:solidFill>
                  <a:srgbClr val="eaeaea"/>
                </a:solidFill>
                <a:latin typeface="Times New Roman"/>
              </a:rPr>
              <a:t>tro-dimenzionalnosti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932360" y="3716280"/>
            <a:ext cx="197172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cc66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4360" y="228600"/>
            <a:ext cx="777528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Times New Roman"/>
              </a:rPr>
              <a:t>MIRROR SPACE – VIRTUALNI ODSEV</a:t>
            </a:r>
            <a:endParaRPr b="0" lang="en-US" sz="3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11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eksplozija samega seb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istem odsevov v katerem je oseb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vidna kot sklop celotnega bitj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v omrežju     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učinki in objekti preoblikovani v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ri-dimenzionalne objekt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reoblikovanje svoje podob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reoblikovanje celične struktur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6156360" y="1989000"/>
            <a:ext cx="2286000" cy="20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cc66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394920" y="620640"/>
            <a:ext cx="8039160" cy="539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Times New Roman"/>
              </a:rPr>
              <a:t>Kako poteka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obiskovalec se postavi v posebno sobo ki jo razsvetljuje en sam snop svetlobe kjer ga odčita svetlobni žarek iz infrardeče kamere ki analizira podobo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roces prepoznave traja približno deset sekund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istem obdela podatke in ustvari tri-dimenzionalni predmet v obliki tekočega, prozornega telesa in ga projicira na veliki zaslo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cc66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mirror" descr=""/>
          <p:cNvPicPr/>
          <p:nvPr/>
        </p:nvPicPr>
        <p:blipFill>
          <a:blip r:embed="rId1"/>
          <a:stretch/>
        </p:blipFill>
        <p:spPr>
          <a:xfrm>
            <a:off x="1547640" y="530280"/>
            <a:ext cx="5832720" cy="54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cc66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4572000" y="2637000"/>
            <a:ext cx="3889440" cy="365904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611280" y="404640"/>
            <a:ext cx="4392360" cy="368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cc66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662040" y="620640"/>
            <a:ext cx="7772400" cy="539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rvna struktura predmeta je izraz opisa karakterj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če obiskovalec stoji bliže velikega zaslona, večja je virtualna podoba in ima tudi več energije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41" name="user2" descr=""/>
          <p:cNvPicPr/>
          <p:nvPr/>
        </p:nvPicPr>
        <p:blipFill>
          <a:blip r:embed="rId1"/>
          <a:stretch/>
        </p:blipFill>
        <p:spPr>
          <a:xfrm>
            <a:off x="1332000" y="2637000"/>
            <a:ext cx="2655720" cy="2879640"/>
          </a:xfrm>
          <a:prstGeom prst="rect">
            <a:avLst/>
          </a:prstGeom>
          <a:ln w="0">
            <a:noFill/>
          </a:ln>
        </p:spPr>
      </p:pic>
      <p:pic>
        <p:nvPicPr>
          <p:cNvPr id="142" name="user1" descr=""/>
          <p:cNvPicPr/>
          <p:nvPr/>
        </p:nvPicPr>
        <p:blipFill>
          <a:blip r:embed="rId2"/>
          <a:stretch/>
        </p:blipFill>
        <p:spPr>
          <a:xfrm>
            <a:off x="5076720" y="2637000"/>
            <a:ext cx="251964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cc66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10920" y="260280"/>
            <a:ext cx="777708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VIRTUALNA REALNOST  CYBERSPHER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4360" y="206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računalniško virtualno okolje s katerim upravlja uporabnik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velika, prazna, prozorna krogla premera 3,5 m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uporabnik vstopi v kroglo in ko se začne premikati, se      le-ta začne vrteti in obračati v vse smeri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računalniške podobe se na podlagi premikov projicirajo na zunanjo steno krogle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uporabnik lahko hodi, teče, skače ali se plazi v katero koli smer 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cc66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Cybersphere graphic"/>
          <p:cNvPicPr/>
          <p:nvPr/>
        </p:nvPicPr>
        <p:blipFill>
          <a:blip r:embed="rId1"/>
          <a:stretch/>
        </p:blipFill>
        <p:spPr>
          <a:xfrm>
            <a:off x="468360" y="549360"/>
            <a:ext cx="4103640" cy="307476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Cybersphere projection"/>
          <p:cNvPicPr/>
          <p:nvPr/>
        </p:nvPicPr>
        <p:blipFill>
          <a:blip r:embed="rId2"/>
          <a:stretch/>
        </p:blipFill>
        <p:spPr>
          <a:xfrm>
            <a:off x="4098960" y="3186000"/>
            <a:ext cx="4073400" cy="305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cc66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4360" y="883800"/>
            <a:ext cx="8307360" cy="79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Kako človeško telo deluje kot mutimedij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55640" y="2349000"/>
            <a:ext cx="7678800" cy="38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gibi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l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nazarjanje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resnično – virtualno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izražanje medijev s telesom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umetnost (projekti, predstave, uprizoritve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cc66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528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VIRTUAL YOU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rojekt je namenjen ustvarjanju virtualnega seb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cilj – razviti natančne tri-dimenzionalne virtualne podobe pravih ljudi v virtualnem svetu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ri-dimenzionalne podobe so narejene tako da se iz digitalnih fotografij odčita struktura telesa in obraza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uporaba virtualnega sebe je izredna priložnost uiti vsakdanjemu resničnemu svetu v svet fantazije in domišljije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cc66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4360" y="228600"/>
            <a:ext cx="777528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EYECO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7750080" cy="41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EyeCon je program, ustvarjen za pospeševanje interaktivnih predstav ki vključujejo gibanje človeškega telesa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rogram za to uporablja drug medij kot npr. video kamer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reko kamere, ki pošlje signal v računalnik se podoba prikaže na zaslonu, nanjo lahko rišemo črte, polja in druge elemente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ko se potem oseba na posnetku premakne in se dotakne enega izmed elementov ki smo jih narisali lahko to sproži zvok ali video animacijo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cc66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476360" y="692280"/>
            <a:ext cx="6264360" cy="530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cc66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4360" y="228600"/>
            <a:ext cx="777528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SMART CHAIR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436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ljudje načeloma zelo veliko časa preživimo sede, na stolu – v pisarni, v avtu, doma pred televizijo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zato so strokovnjaki Media Lab-a zasnovali tako imenovani projekt pametni stol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ak stol naj bi se zavedal uporabnikovih navad – položaja sedenja in gibanja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nudil naj bi popolno udobje uporabniku, vključno z nekaj dobrodošlimi funkcijami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kmalu naj bi sledili še drugi projekti kot so pametna miza, pametne sobe in pametna oblačila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cc66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4360" y="228600"/>
            <a:ext cx="777528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BOBNARS UNITED - "</a:t>
            </a:r>
            <a:r>
              <a:rPr b="0" lang="en-US" sz="3600" spc="-1" strike="noStrike" u="sng">
                <a:solidFill>
                  <a:srgbClr val="cc3300"/>
                </a:solidFill>
                <a:uFillTx/>
                <a:latin typeface="Times New Roman"/>
                <a:hlinkClick r:id="rId1"/>
              </a:rPr>
              <a:t>BUmBUs</a:t>
            </a:r>
            <a:r>
              <a:rPr b="0" lang="en-US" sz="3600" spc="-1" strike="noStrike" u="sng">
                <a:solidFill>
                  <a:srgbClr val="ffffcc"/>
                </a:solidFill>
                <a:uFillTx/>
                <a:latin typeface="Times New Roman"/>
              </a:rPr>
              <a:t>"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62040" y="1699920"/>
            <a:ext cx="7772400" cy="453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aeaea"/>
                </a:solidFill>
                <a:latin typeface="Times New Roman"/>
              </a:rPr>
              <a:t>Bobnars United je skupina sedmih bobnark in bobnarjev ki prenaša izročila afriške in drugih kultur skozi glasbo in ples 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cc3300"/>
                </a:solidFill>
                <a:uFillTx/>
                <a:latin typeface="Times New Roman"/>
                <a:hlinkClick r:id="rId2"/>
              </a:rPr>
              <a:t>BUmBUs</a:t>
            </a:r>
            <a:r>
              <a:rPr b="0" lang="en-US" sz="2200" spc="-1" strike="noStrike" u="sng">
                <a:solidFill>
                  <a:srgbClr val="eaeaea"/>
                </a:solidFill>
                <a:uFillTx/>
                <a:latin typeface="Times New Roman"/>
              </a:rPr>
              <a:t> je mutimedialni eksperimentalni projekt za gluhe in naglušne s katerim želijo skozi bobnanje in elektronske ter vizualne medije ustvariti novo, večmedijsko izkušnjo ritmično razgibanega prostora 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aeaea"/>
                </a:solidFill>
                <a:latin typeface="Times New Roman"/>
              </a:rPr>
              <a:t>projekt je zastavljen s poudarkom na interaktivnosti in večzaznavni komunikaciji ter osredotočen na prednosti giba kot primarnega medija gluhih in naglušnih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aeaea"/>
                </a:solidFill>
                <a:latin typeface="Times New Roman"/>
              </a:rPr>
              <a:t>plesna animacija, hkratno posredovanje ritma skozi elektronske vizualije (video, animacija) kot tudi izkušnja vibracije v prostoru s pomočjo predmetov (npr. baloni), zvočil in lastnega telesa se zlijejo v celovito doživetje ritma  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cc66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3166920" cy="2387520"/>
          </a:xfrm>
          <a:prstGeom prst="rect">
            <a:avLst/>
          </a:prstGeom>
          <a:ln w="0">
            <a:noFill/>
          </a:ln>
        </p:spPr>
      </p:pic>
      <p:pic>
        <p:nvPicPr>
          <p:cNvPr id="157" name="tn65-kebendo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132000" y="2205000"/>
            <a:ext cx="2562480" cy="259236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4"/>
          <a:stretch/>
        </p:blipFill>
        <p:spPr>
          <a:xfrm>
            <a:off x="5364000" y="4365720"/>
            <a:ext cx="2881440" cy="22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cc66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66168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snetek s koncerta Bobnars United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5219640" y="2349360"/>
          <a:ext cx="2249640" cy="1398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19640" y="2349360"/>
                    <a:ext cx="2249640" cy="139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cc66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4000" y="475920"/>
            <a:ext cx="8234280" cy="141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0" lang="sl-SI" sz="3200" spc="-1" strike="noStrike">
                <a:solidFill>
                  <a:srgbClr val="ffffcc"/>
                </a:solidFill>
                <a:latin typeface="Times New Roman"/>
              </a:rPr>
              <a:t>Johannes Birringer:</a:t>
            </a:r>
            <a:br>
              <a:rPr sz="3200"/>
            </a:br>
            <a:r>
              <a:rPr b="0" lang="en-US" sz="3200" spc="-1" strike="noStrike">
                <a:solidFill>
                  <a:srgbClr val="ffffcc"/>
                </a:solidFill>
                <a:latin typeface="Times New Roman"/>
                <a:ea typeface="Arial"/>
              </a:rPr>
              <a:t>"</a:t>
            </a:r>
            <a:r>
              <a:rPr b="0" lang="sl-SI" sz="3800" spc="-1" strike="noStrike">
                <a:solidFill>
                  <a:srgbClr val="ffffcc"/>
                </a:solidFill>
                <a:latin typeface="Times New Roman"/>
              </a:rPr>
              <a:t>ENVIRONMENTS</a:t>
            </a:r>
            <a:r>
              <a:rPr b="0" lang="en-US" sz="3800" spc="-1" strike="noStrike">
                <a:solidFill>
                  <a:srgbClr val="ffffcc"/>
                </a:solidFill>
                <a:latin typeface="Times New Roman"/>
                <a:ea typeface="Arial"/>
              </a:rPr>
              <a:t>"</a:t>
            </a:r>
            <a:endParaRPr b="0" lang="en-US" sz="3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0920" y="2204640"/>
            <a:ext cx="7149960" cy="246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l-SI" sz="2400" spc="-1" strike="noStrike">
                <a:solidFill>
                  <a:srgbClr val="eaeaea"/>
                </a:solidFill>
                <a:latin typeface="Times New Roman"/>
              </a:rPr>
              <a:t>eden najbolj znanih medijskih koreografov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l-SI" sz="2400" spc="-1" strike="noStrike">
                <a:solidFill>
                  <a:srgbClr val="eaeaea"/>
                </a:solidFill>
                <a:latin typeface="Times New Roman"/>
              </a:rPr>
              <a:t>sklop plesnih projektov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“</a:t>
            </a:r>
            <a:r>
              <a:rPr b="0" lang="sl-SI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Environments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“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l-SI" sz="2400" spc="-1" strike="noStrike">
                <a:solidFill>
                  <a:srgbClr val="eaeaea"/>
                </a:solidFill>
                <a:latin typeface="Times New Roman"/>
              </a:rPr>
              <a:t>združevanj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84360" y="3933720"/>
            <a:ext cx="6408720" cy="230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lesne predstave            - prostorski koncep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ehnologije                    - interaktivni sistemi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                                         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- gibanj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                                         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- animacij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cc66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55640" y="228600"/>
            <a:ext cx="823608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"ENVIRONMENTS" – THE KNOT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10920" y="1773000"/>
            <a:ext cx="7823160" cy="410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redstava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št. XII v sklopu glasbeno - plesnih d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opisuje objekte poželenja in hrepenenja ki so ujeti v virtualnem svetu, prikazanem na projekcijah v ozadju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nedostopni, deležni velike mere fantaziranja in sanjarjenj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627280" y="4292640"/>
            <a:ext cx="3384720" cy="191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cc66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661680" y="620640"/>
            <a:ext cx="3809880" cy="539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kratek odlomek iz predstave THE KNO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4624200" y="691920"/>
            <a:ext cx="380988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cc66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528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cc"/>
                </a:solidFill>
                <a:latin typeface="Times New Roman"/>
              </a:rPr>
              <a:t>Ohio State University</a:t>
            </a:r>
            <a:br>
              <a:rPr sz="2800"/>
            </a:br>
            <a:r>
              <a:rPr b="0" lang="sl-SI" sz="3400" spc="-1" strike="noStrike">
                <a:solidFill>
                  <a:srgbClr val="ffffcc"/>
                </a:solidFill>
                <a:latin typeface="Times New Roman"/>
              </a:rPr>
              <a:t>MULTICULTURAL DANCE ALLIANCE</a:t>
            </a:r>
            <a:r>
              <a:rPr b="0" lang="sl-SI" sz="40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študentska organizacij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 svojimi projekti skozi razne umetnostne oblike kot so ples in glasba predstavlja bogato kulturno raznolikos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vizija – privzdigniti afriške in azijske plesne oblike na višjo umetniško rave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258920" y="4292640"/>
            <a:ext cx="2781360" cy="17524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4932360" y="4292640"/>
            <a:ext cx="2519280" cy="17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cc66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Random Dance - ALPHA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4000" y="1773360"/>
            <a:ext cx="4608360" cy="453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Alpha je skupina desetih plesalcev ki ustvarja projekte in predstave, namenjene predvsem otrokom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osredotočenost na nove plesne tehnologij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oder – virtualno svetišče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združevanje plesa s tehnologijami animacije, digitalnega filma, razsvetljave in elektronske glasb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5867280" y="2276640"/>
            <a:ext cx="2581560" cy="26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cc66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66168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ALPHA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4624200" y="980640"/>
            <a:ext cx="3809880" cy="503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cc66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4360" y="228600"/>
            <a:ext cx="777528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COMPANY IN SPACE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4000" y="1483920"/>
            <a:ext cx="8135640" cy="439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kupina umetnikov iz Melbourn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uvajanje novih in drugačnih tehnologij gibanj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rovokativne predstave – dialogi med vidnim, slušnim in dinamičnim zaznavanjem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v eni predstavi več medijev – gibi človeških teles, video in interaktivni virtualni pros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5003640" y="4076640"/>
            <a:ext cx="3314880" cy="22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9T20:09:00Z</dcterms:created>
  <dc:creator>NEMESIS 3 SLO</dc:creator>
  <dc:description/>
  <dc:language>en-US</dc:language>
  <cp:lastModifiedBy>NEMESIS 3 SLO</cp:lastModifiedBy>
  <dcterms:modified xsi:type="dcterms:W3CDTF">2006-02-05T19:48:27Z</dcterms:modified>
  <cp:revision>8</cp:revision>
  <dc:subject/>
  <dc:title>ČLOVEŠKO TELO KOT MULTIMEDIJ</dc:title>
</cp:coreProperties>
</file>