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767-8D12-4244-873E-232F8DF9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BD52-55B5-4ED8-B9CE-9538D098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E8E-9BD9-4CF1-B71E-0E64F595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3BE-5FEE-49C4-B4DC-8298BBB7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8F9-2CEB-4D45-8774-99B672B2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C98-8529-4A6F-B25F-8B0490ED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19E-D8C8-48C6-8162-C9B5AA63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103-8C2F-41D2-9EE2-1ED358C6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CD9-0BF8-4868-9934-8846143A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504C-5668-476C-A4FC-DCCCD1F1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1E5-3AC9-439A-AD45-A734549B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11B-6EA7-4182-8A10-694DEFD4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C3A6-A8FA-46CC-88AC-D22D42063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924280"/>
            <a:ext cx="713268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NI VIDIK PRIPRAVE GLASBENE KOMPOZICI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ANALOGNO PREDVAJAN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157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Žiga No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9228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TVARJA SE Z ELEKTRONSKO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SIZER, SAMPLER, RAČUNALNIK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OVANA TUDI RAČUNALNIŠKA GLAS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RAZVOJEM PROGRAMOV LAHKO MANIPULIRA Z ZVO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USTVARJANJE SE UPORABLJAJO POSEBNI PR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268280"/>
            <a:ext cx="640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D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ČETEK OB KONCU 70-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ZAČETKU 90-tih MANJ KVALIT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 KONCU 90-tih SE IZBOLJŠA, ZARA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PEŠENEGA RAZVOJA RAČUNAL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ANE BOLJ MELODIČNA IN DODE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DMEVNA LETNICA (1994) V SLOVEN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A TISTEGA Č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L COX, MARUSHA, LAURENT GAR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HOOLIGAN, 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557360"/>
            <a:ext cx="806436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VRSTI ELEKTRONSKE GLAS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HC, SPEEDCORE, HAPPY HC, GAB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TAREJŠI HC IZJEMNO RAZNO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DINAMIČNA IN PREPROSTA STRUK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AZNOLIKI ZV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D 180 BPM NAVZ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PEED CORE DOSEGA HITROST 1200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VEJŠI HC, MONOTON, AGRESIVNEJŠI, NEGAT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557360"/>
            <a:ext cx="734544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PPY HC, KI JE NASPROTJE STAREJŠEGA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EBUJE VISOKE TONE IN GLAS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ASOVI SPOMINJAJO NA OTROŠKE RIS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OTONOST OSTAJA,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BBER; RAZVOJ IZ HC POD VPLIVOM DARK ME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 NOISE; KOMBINACIJA HC IN BREAK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AT NI KONSTANTEN, AMPAK LOML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EGA HITROST 20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700280"/>
            <a:ext cx="727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HITROST OD 120 – 140 B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FUNKY, HARD, VOOD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AZVOJ SCHRANZA (11.september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DARK IN VSEBUJE AGRES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40 – 16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1125360"/>
            <a:ext cx="61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ENA STAREJŠIH ZVR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NASTALA POD VPLIVOM DISKO GLAS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ELODIČNA, VSEBUJE DOSTI VOKA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80 – 12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HARD, FUNKY, PROG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221000"/>
            <a:ext cx="86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 = STAR STIL, TEMELJI NA RAČUNALNIŠ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TIZIRANIH ZVO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= TEMELJI NA ZVOKIH TOL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Y = POČASNEJŠI, BOGATI ZVOKI IN NESITETIČNI, NENARA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VE = MELODIČEN, USKLAJEVANJE ZVOK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2349360"/>
            <a:ext cx="69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K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ESTAVA KOMADA (SEKVENCA, SOUNDI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OFONSKA PLOŠČ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989000"/>
            <a:ext cx="619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OGNI ZVOČNI SNEMALNI MED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VEN VRTEČI DISK, S STALNO HITROST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RALNA POT, KJER IGLA D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LADUJOČ MEDIJ CELIH 70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33 1/3 RPM LONG – PLAYIN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45 RPM EXTENDED – PLAYING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PM = REVOLUTION PER MINUTE (ROTACIJA NA MIN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ZALNIK PLOŠ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276640"/>
            <a:ext cx="705636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PRIBLIŽNO 110 LET, SNOVAN NA GRAMOF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DOMETI EDISONOV CI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0 ELEKTRONSKI SIGNAL ZAMENJA MEHANSK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USTIČNA APLIKACIJA POSTANE BOLJ NATAN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DINAMIČNO RAVNOV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844640"/>
            <a:ext cx="792000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DOBI SE Z PRETVORBO ANALOGNEGA SIGNALA ALI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KTRON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RETEN IN KVANTIZ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ČNO PREDSTAVLJA NEZVEZNO, DISKRET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C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6553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73360"/>
            <a:ext cx="835344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ZDELITEV V DVE KATEGOR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NEKATERI SO DISKERTNI IN KVANTI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NEKATERI OPIŠEJO POJAVE, KI SO NEPRES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ORABA SE JE ZELO POVEČ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ČINA HIŠNIH NAPRAV ZASNOVANA Z DIGITALNIM SIGN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STAVLJALJEN JE BIN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VANTIZACIJA MERJENA V BI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916280"/>
            <a:ext cx="6985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ANČNA PREDSTAV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MPLEKSNO PROCES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NOS BREZ NA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VNO NIZK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692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IZACIJA ZV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852640"/>
            <a:ext cx="7705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OSTAVEN PRIMER PROCESA DIGITALIZACIJE IN VZOR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KA V TREH FAZA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VZORČ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VANT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916280"/>
            <a:ext cx="828036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ZVOK, KI JE POSNET IN SHRANJEN V DIGITALNEM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N JE LAHKO NA CD-ju, MINIDISC, DAT TAPE, 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NIKU V WAV ALI MP3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OČNE PERSPEK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TEREO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URROUND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OLBY DIGITAL 5.1. IN 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1557360"/>
            <a:ext cx="6697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W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PODATKOVNA DATOTEKA ZA RAČUNALNIŠ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UPOR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MICROSOFT IN IBM STANDA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RAZLIČICA RIFF BI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OMEJEN NA DATOTEKE MANJŠE OD 2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CD-ji GA NE UPORABLJ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557360"/>
            <a:ext cx="6481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M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IGITALNO AVDIO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ZGUBEN STISKAL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UPORABLJENE ZA DOWNLOAD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 GLASBE NA RAČUNALNI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KODIRNIK IN NE DATOTEČ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557360"/>
            <a:ext cx="770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ŠČENKA (CD – COMPACT D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ČNI DISK ZA SHRANJEVANJE DIGITALNIH PODAT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NI PLAYBACK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KOMERCIALNO AVDIO PREDVAJANJE IN SNEM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 PREMER 1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 MM ZADRŽI 74 MIN AVDIA, 80 MM PA 20 MIN AV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0:10:58Z</dcterms:created>
  <dc:creator>Ziga</dc:creator>
  <dc:description/>
  <dc:language>en-US</dc:language>
  <cp:lastModifiedBy>Ziga</cp:lastModifiedBy>
  <dcterms:modified xsi:type="dcterms:W3CDTF">2005-12-14T23:42:37Z</dcterms:modified>
  <cp:revision>25</cp:revision>
  <dc:subject/>
  <dc:title>Diapozitiv 1</dc:title>
</cp:coreProperties>
</file>