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1875-8EAE-431F-B38A-9A408629F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8478-1494-41FD-AEE1-4A700FB6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013A-DBD2-4E26-A38B-8C26FCB53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69C4-9C71-4172-A2A2-871973361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4859B-C2FB-4DDD-893E-D1B3EC08B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BCC3-D114-4246-A15A-1C6FDE44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88AC-8099-4EC1-8AB7-C354B3B6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4C04-6280-49A6-9734-0D68B2C9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7DFD-159C-4F27-B4A8-2A2A6963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B816-5388-4E5A-A313-4C355179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6E1F3-49C3-420F-9AD1-B74D614A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AB21-DC96-4FB2-A6E0-E0A87338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900F2-687F-4DC5-B74D-032ED5BC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69D4-4EBA-4B49-9412-22ECD97B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FDDB-E27F-43CD-8F1C-E69FD0D2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2290-E682-4D84-8D3B-4AAAC3BB6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2A17-0A6D-44AF-AC1B-B2E399810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6065-ED77-475D-A4A4-5D143476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62DC-3AF6-4058-B081-AABF7CBC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9C33-3AEF-4381-9998-3A47A8EC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CD96-9E1B-475E-B9B2-4538DA8A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A8F3-8F50-4AFC-8B75-F5BF5D00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AAD7-17C1-4C35-A688-C5BDD1BE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C055-FD74-4F25-A966-9F74966E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BD4A-B439-4129-B722-1951878D4F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0EF3-B545-4439-96D0-31C570EF53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edia-forum.si/slo/pokrajina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cc0000"/>
                </a:solidFill>
                <a:latin typeface="Arial Black"/>
              </a:rPr>
              <a:t>Časopis kot medij</a:t>
            </a: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Časopis,televizija in radio, so najpogostejši in najučinkovitejši prenašalec informaci ali med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Tis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V tisku se tiska z plat formami in poznamo več vrst tika:-visok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globok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propust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plosk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Dodela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Tu se obrezejo in znesejo pole v časopis in nato, se jih šiva ali veže,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Zato imamo:-rezalne stro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deklšerje ali lepenčne škar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zlagalni stro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izsekovalni stro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Časopi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Časopisi po pokrajina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Priprav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Miha Hrženja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Kako nastane časopis in člane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176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Uredništvo:  -lek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-uredn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-grafična obdel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-pripr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Tiskarna:     -reprograf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-tis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-dodel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Uredništv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LEK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UREDN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GRAFIČNI OBDELOV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PRIPR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Lek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Pregleda (popravlja) rokopise,članke,..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glede na jezikovno pravilnost,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Urednic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Uredniku ali redaktor, je strokovnjak ki pripravi tematsko zaokrožen del časopisa,revije,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Glavni urednik je človek, ki skrbi za celoten program, javno in pravno,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Grafično obdelovan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Tu se obdelujejo slike. Najpogostejši programi so PhotoShop, CorelDraw,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Pripra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Tu se pripravi ves material,to s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s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tek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Tiskar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REPROGRAF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TIS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DODEL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Reprograf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V reprografiji se postavi položaje slik in teksta, vecino tega se naredi v CorelDraw program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13:15:29Z</dcterms:created>
  <dc:creator>Miha Hamster Hrženjak</dc:creator>
  <dc:description/>
  <dc:language>en-US</dc:language>
  <cp:lastModifiedBy>Miha Hamster Hrženjak</cp:lastModifiedBy>
  <dcterms:modified xsi:type="dcterms:W3CDTF">2005-12-08T15:51:05Z</dcterms:modified>
  <cp:revision>6</cp:revision>
  <dc:subject/>
  <dc:title>Časopis kot medij </dc:title>
</cp:coreProperties>
</file>