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451-2D52-43B5-B59A-902826A1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E33-6AB5-4B6F-BDCF-1842307D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D18-761A-4A58-815C-E9084976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C48-430E-4DED-81A0-4B4E39F7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A52-A3EE-46D8-A260-8A7ECF30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D28-BD32-4FDC-A791-5199B48A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D8A-45AF-46BC-A2AB-A88DFA8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5C1-19B8-4FA7-8EED-7A3FA408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2AF-9779-4999-9BD7-9FD16BB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E13-0F00-4FC6-8E86-07782968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0E3-9DDA-44FC-AC87-E83245D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B3A-2156-48FD-A368-DAF583A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E828-A85E-4972-B2A9-4EA8848AA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upatam.com/si/" TargetMode="External"/><Relationship Id="rId4" Type="http://schemas.openxmlformats.org/officeDocument/2006/relationships/hyperlink" Target="http://www.mitjaokorn.s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egled procesa filmske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2000" y="5805000"/>
            <a:ext cx="2727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ka Ko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ntaža videa in av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nhronizacija zv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L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Promo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na s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Glasbeni a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Jumbo plak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28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lovenski film Tu pa tam sem s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nesel z interneta in pogledal d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055 (61,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lma nisem gle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1248 (25,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95 (7,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doma in nato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277 (5,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43080" y="62564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4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 in dokumenta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43812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475308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Slovenski low budget film TU PA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Režiser Mitja Ok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3815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>
            <a:hlinkClick r:id="rId3"/>
          </p:cNvPr>
          <p:cNvSpPr/>
          <p:nvPr/>
        </p:nvSpPr>
        <p:spPr>
          <a:xfrm>
            <a:off x="799920" y="45324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tupata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815040" y="501336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mitjaokorn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Zgodovina slovenskega fi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905 dr. Karol Gro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dhod od ma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ejem v Ljuto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Na domačem vrtu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860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1 Janko R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 kraljestvu Zlator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229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2 Ferdo De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iglavske st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Filmska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652320"/>
            <a:ext cx="88106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4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Zbiranje dena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5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Š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d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črtovanje ur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kanje loka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527220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ne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seb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03640" y="2685960"/>
            <a:ext cx="5775120" cy="38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03640" y="2141640"/>
            <a:ext cx="575604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1:22:31Z</dcterms:created>
  <dc:creator>Uporabnik</dc:creator>
  <dc:description/>
  <dc:language>en-US</dc:language>
  <cp:lastModifiedBy>Uporabnik</cp:lastModifiedBy>
  <dcterms:modified xsi:type="dcterms:W3CDTF">2006-11-21T13:03:52Z</dcterms:modified>
  <cp:revision>6</cp:revision>
  <dc:subject/>
  <dc:title>Pregled procesa filmske produkcije</dc:title>
</cp:coreProperties>
</file>