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3062-7ACE-4423-94E6-2448C3AD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37C-59D1-46B3-8AEF-34006885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985-1B74-4653-A311-93EC73C9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8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440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8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440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40D7-D3C9-4101-83CF-0BFE9945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AF78-D195-499D-98FD-8A9BA141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3703-880D-425E-B45D-6918C0FD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08C3-8449-43C0-9C6A-E758CC0E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AE34-BD1F-461B-8416-CD4C1A2D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3DF4-8CC1-4D61-A446-1930415E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89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A44C-214B-4A36-94EF-3193CBF5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6155-BF59-4C66-BB3D-30EACBA2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3DC-9066-40C2-9E87-4CDDDB49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8DB8-CB7C-4123-9A26-7D39447C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E774-1D95-4989-8A04-9D8F419B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8B6D-8746-4047-A95D-E69DE3CF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778F-5C32-49C8-BDCD-555CA96D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78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440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78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440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E50C-AD46-4EC5-BF67-4E908B0D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1F90-C4FB-42FE-BD7E-1B385F0A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5E4C-0DBF-42B4-812C-9D9E5431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558-B005-43AF-B19C-71AFF170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889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B2C-CFD3-40E9-A9B6-E3E54C0F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9B9-20DA-4083-8B1F-BF354BF1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093-F75E-4B4C-9339-BC8A7647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C076-5518-44F4-8A36-F01BF496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55AFF0-CE7C-4D4E-BB30-717E321551AC}" type="slidenum"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SzPct val="105276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720"/>
            <a:ext cx="6399360" cy="25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B53E388-D4E9-40EF-8F0E-4C135BB03341}" type="slidenum"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SzPct val="105276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3delavnica.com/" TargetMode="External"/><Relationship Id="rId3" Type="http://schemas.openxmlformats.org/officeDocument/2006/relationships/hyperlink" Target="http://www.3delavnica.com/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83628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MEDIJSK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57909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uka Ža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jubljana, 20. 11.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77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, Charles Emile Reynaud-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RAXINO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79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, Eadweard James Muybridge-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ZOOPRAXI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4. Digitaln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5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vizu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ik ustvarja na računalniku v digitalni obl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onuja nam možnost izražanja skozi sliko in zv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ožnost kombiniranja digitalne umetnosti z analognimi oblikami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 u="sng">
                <a:solidFill>
                  <a:srgbClr val="993300"/>
                </a:solidFill>
                <a:uFillTx/>
                <a:latin typeface="Times New Roman"/>
              </a:rPr>
              <a:t> </a:t>
            </a:r>
            <a:r>
              <a:rPr b="1" i="1" lang="en-GB" sz="4000" spc="-1" strike="noStrike" u="sng">
                <a:solidFill>
                  <a:srgbClr val="993300"/>
                </a:solidFill>
                <a:uFillTx/>
                <a:latin typeface="Times New Roman"/>
              </a:rPr>
              <a:t>področja digitaln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2D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3D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nožični med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elektronska glas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5. Razvoj računalniške grafike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0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se pojavijo prvi risaln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3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Ivan Sutherland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napiše prvi risarski računalniški program, 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SKETCH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33640" y="20811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191120" cy="3406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257800" y="3276720"/>
            <a:ext cx="3733920" cy="34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90360" y="380520"/>
            <a:ext cx="7769160" cy="70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februar 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5;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Michael Noll, Georg Ness, Frieder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Nake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prva razstava digitalne umetnosti na svetu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Generativna računalniška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konec šestdesetih v New Yorku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EAT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(Eksperiments in art and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rvi poskusi računalniške animacije; brata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John in James Whit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9;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skupina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SIGRAP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79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v Linzu; festival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ARS ELECTRONICA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6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v Linzu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CENTER DIGITALNE UME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85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AM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5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podjetje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IXAR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ustvari prvi računalniško animirani celovečerni film,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Toy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6. Digitalna umetnost v Slovenij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Edward Zajec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4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KIBERKU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IXXELPOIN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3delavnica.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Domen Lomber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85960" y="1876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4824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482400"/>
                </a:solidFill>
                <a:latin typeface="Times New Roman"/>
              </a:rPr>
              <a:t>Birth of venus, avtor Domen Lombergar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85960" y="1876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586728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380844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Net art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ine razstavljene in dostopne izključno prek inter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Generativna umetnost</a:t>
            </a:r>
            <a:r>
              <a:rPr b="1" lang="en-GB" sz="2400" spc="-1" strike="noStrike" u="sng">
                <a:solidFill>
                  <a:srgbClr val="9933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etoda za razvoj idej in iskanje novih rešitev na vseh področjih človekovega ustvarjanja</a:t>
            </a:r>
            <a:r>
              <a:rPr b="0" lang="en-GB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2520" y="1066680"/>
            <a:ext cx="380844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Machinima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zvrst, ki je tesno povezana z računalniškimi igr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Kaj je umetnost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2819520"/>
            <a:ext cx="776916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dejavnosti, katere namen je ustvarjanje del z estetsko vrednost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2. Vrst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lasbe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iko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ledališ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fi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sodob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slikarst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kipar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lesna umetnost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6858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3. Kaj je namen umetnosti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65724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“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namen umetnosti je catharsis, očiščenje, katerega doživi človek ob opazovanju umetniškega dela”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                  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(Aristot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2. Kaj je medij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2895120"/>
            <a:ext cx="776916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edij lahko opredelimo kot neke vrste naprave za prenos informaci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2. 1. Mediji v umetnosti</a:t>
            </a:r>
            <a:r>
              <a:rPr b="0" lang="en-GB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aterial iz katerega je izdelano umetniško de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aterial katerega je umetnik uporabil za izražanje v ustvarjalnem proce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95280" y="3048120"/>
          <a:ext cx="723924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048120"/>
                    <a:ext cx="72392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1143000" y="3200400"/>
            <a:ext cx="7543800" cy="3429000"/>
            <a:chOff x="1143000" y="3200400"/>
            <a:chExt cx="7543800" cy="3429000"/>
          </a:xfrm>
        </p:grpSpPr>
        <p:grpSp>
          <p:nvGrpSpPr>
            <p:cNvPr id="104" name=""/>
            <p:cNvGrpSpPr/>
            <p:nvPr/>
          </p:nvGrpSpPr>
          <p:grpSpPr>
            <a:xfrm>
              <a:off x="1149480" y="3203640"/>
              <a:ext cx="7530840" cy="3422520"/>
              <a:chOff x="1149480" y="3203640"/>
              <a:chExt cx="7530840" cy="342252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149480" y="3203640"/>
                <a:ext cx="3765600" cy="347760"/>
                <a:chOff x="1149480" y="3203640"/>
                <a:chExt cx="3765600" cy="347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204920" y="32036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i="1" lang="en-GB" sz="1600" spc="-1" strike="noStrike" u="sng">
                      <a:solidFill>
                        <a:srgbClr val="993300"/>
                      </a:solidFill>
                      <a:uFillTx/>
                      <a:latin typeface="Times New Roman"/>
                      <a:ea typeface="Times New Roman"/>
                    </a:rPr>
                    <a:t>umetni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149480" y="320364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915080" y="3203640"/>
                <a:ext cx="3765240" cy="347760"/>
                <a:chOff x="4915080" y="3203640"/>
                <a:chExt cx="3765240" cy="34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970520" y="32036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i="1" lang="en-GB" sz="1600" spc="-1" strike="noStrike" u="sng">
                      <a:solidFill>
                        <a:srgbClr val="993300"/>
                      </a:solidFill>
                      <a:uFillTx/>
                      <a:latin typeface="Times New Roman"/>
                      <a:ea typeface="Times New Roman"/>
                    </a:rPr>
                    <a:t>medi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915080" y="320364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149480" y="3549600"/>
                <a:ext cx="3765600" cy="347760"/>
                <a:chOff x="1149480" y="3549600"/>
                <a:chExt cx="3765600" cy="34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204920" y="35496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slik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149480" y="354960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915080" y="3549600"/>
                <a:ext cx="3765240" cy="347760"/>
                <a:chOff x="4915080" y="3549600"/>
                <a:chExt cx="3765240" cy="34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970520" y="35496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barva, platn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915080" y="354960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149480" y="3897360"/>
                <a:ext cx="3765600" cy="446040"/>
                <a:chOff x="1149480" y="3897360"/>
                <a:chExt cx="3765600" cy="4460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204920" y="389736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kip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149480" y="389736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915080" y="3897360"/>
                <a:ext cx="3765240" cy="446040"/>
                <a:chOff x="4915080" y="3897360"/>
                <a:chExt cx="3765240" cy="4460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970520" y="389736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azlične vrste kamnin, lahko tudi les ali glin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915080" y="389736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149480" y="4343400"/>
                <a:ext cx="3765600" cy="446040"/>
                <a:chOff x="1149480" y="4343400"/>
                <a:chExt cx="3765600" cy="4460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204920" y="434340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arhitek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149480" y="434340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915080" y="4343400"/>
                <a:ext cx="3765240" cy="446040"/>
                <a:chOff x="4915080" y="4343400"/>
                <a:chExt cx="3765240" cy="4460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970520" y="434340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zemlja, opeka,les, kamen beton, železobeton, razne kovine in stekl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915080" y="434340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1149480" y="4791240"/>
                <a:ext cx="3765600" cy="446040"/>
                <a:chOff x="1149480" y="4791240"/>
                <a:chExt cx="3765600" cy="4460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204920" y="479124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fotograf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149480" y="479124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915080" y="4791240"/>
                <a:ext cx="3765240" cy="446040"/>
                <a:chOff x="4915080" y="4791240"/>
                <a:chExt cx="3765240" cy="4460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970520" y="479124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fotoaparat; - analogni (filmski trak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                  </a:t>
                  </a: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- digitalni (fotosenzorji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         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915080" y="479124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149480" y="5237280"/>
                <a:ext cx="3765600" cy="347400"/>
                <a:chOff x="1149480" y="5237280"/>
                <a:chExt cx="3765600" cy="347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204920" y="5237280"/>
                  <a:ext cx="365436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pisatelj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149480" y="5237280"/>
                  <a:ext cx="3765600" cy="347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915080" y="5237280"/>
                <a:ext cx="3765240" cy="347400"/>
                <a:chOff x="4915080" y="5237280"/>
                <a:chExt cx="3765240" cy="3474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970520" y="5237280"/>
                  <a:ext cx="365436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papir (knjiga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915080" y="5237280"/>
                  <a:ext cx="3765240" cy="347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149480" y="5584680"/>
                <a:ext cx="3765600" cy="347760"/>
                <a:chOff x="1149480" y="5584680"/>
                <a:chExt cx="3765600" cy="34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204920" y="558468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eži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149480" y="558468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915080" y="5584680"/>
                <a:ext cx="3765240" cy="347760"/>
                <a:chOff x="4915080" y="5584680"/>
                <a:chExt cx="3765240" cy="34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970520" y="558468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video kamera, filmski trak, DV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915080" y="558468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149480" y="5932440"/>
                <a:ext cx="3765600" cy="347760"/>
                <a:chOff x="1149480" y="5932440"/>
                <a:chExt cx="3765600" cy="34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204920" y="59324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glasbeni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149480" y="593244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915080" y="5932440"/>
                <a:ext cx="3765240" cy="347760"/>
                <a:chOff x="4915080" y="5932440"/>
                <a:chExt cx="3765240" cy="3477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970520" y="59324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glasbilo, C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915080" y="593244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149480" y="6278400"/>
                <a:ext cx="3765600" cy="347760"/>
                <a:chOff x="1149480" y="6278400"/>
                <a:chExt cx="3765600" cy="3477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204920" y="62784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spletni oblikovale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149480" y="627840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915080" y="6278400"/>
                <a:ext cx="3765240" cy="347760"/>
                <a:chOff x="4915080" y="6278400"/>
                <a:chExt cx="3765240" cy="3477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970520" y="62784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ačunalnik, disk, sple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915080" y="627840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>
              <a:off x="1143000" y="3200400"/>
              <a:ext cx="7543800" cy="3429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Medijsk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69520" cy="48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ost, ki je bila ustvarjena s tehnologijo 20. stole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nasprotje ali sodobni razvoj klasične ume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je v kakršnikoli povezavi s telekomunikacijami, množičnimi mediji in digitalnim načinom predstavitve nekega umetniškega izdel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3790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1. Medijska umetnost v splošnem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računalnišk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digit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elektronska umetn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enerati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formacijsk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terakti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ternet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zvoko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vizu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2. Zgodovina medijsk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34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-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ZOET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4114800" cy="4340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