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329-3BBD-462F-AEE3-4444BA9E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E7D-6C50-490A-A0BF-1EBD9FBD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64D-1363-4444-93E7-10D43E4A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976-140D-4374-8032-CBC3D929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4442-8957-4AE3-A773-9BF62662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B5B1-BCB1-4EB1-9F70-5C6F5396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EF95-15BD-4E3F-A0BE-EC9572C8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8417-4904-44C7-BA46-B07BC6C0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8F05-5D19-4B78-9206-20AA887B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3430-DB2D-4795-B3C9-875011FE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77B3-D7BF-4EB1-AD2A-1C3EDE07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24D-A632-4FAB-BF20-94A2B77E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CC27-54AE-489F-906D-1C1F61B7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71F1-5182-4F24-B140-8DCF28E5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CA23-6FEF-4253-A24E-FC35DDF8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8FD0-14DD-4935-900F-A3851918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8F97-34C4-430F-8871-ED98C7D3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8A18-378D-45EB-875D-BBF81758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A433-A115-42A0-B419-14434EED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6CCF-0813-4015-9443-4A4666EB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C585-E3B7-4698-BE33-AB4ACDBE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246-FDA9-47BD-AB79-289B527C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FBB-2744-4FD4-94D6-5815EBD5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442D-DF01-4164-82DF-9A343E86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lnTo>
                    <a:pt x="0" y="3587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9B170B-68E6-4FDA-8F30-FD04A2BF79DA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lnTo>
                    <a:pt x="0" y="3587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FCDD43D-7A73-493B-939C-2A5295EB700A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revir.si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94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edstavitev seminarske nalog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MS Gothic"/>
              </a:rPr>
              <a:t>Osnove multimedijev</a:t>
            </a:r>
            <a:br>
              <a:rPr sz="3200"/>
            </a:br>
            <a:r>
              <a:rPr b="0" i="1" lang="en-GB" sz="3000" spc="-1" strike="noStrike">
                <a:solidFill>
                  <a:srgbClr val="ffffff"/>
                </a:solidFill>
                <a:latin typeface="Arial"/>
                <a:ea typeface="MS Gothic"/>
              </a:rPr>
              <a:t>Mentor: dr. Peter Purg</a:t>
            </a:r>
            <a:br>
              <a:rPr sz="3000"/>
            </a:br>
            <a:r>
              <a:rPr b="0" i="1" lang="en-GB" sz="3000" spc="-1" strike="noStrike">
                <a:solidFill>
                  <a:srgbClr val="ffffff"/>
                </a:solidFill>
                <a:latin typeface="Arial"/>
                <a:ea typeface="MS Gothic"/>
              </a:rPr>
              <a:t>Avtor: Tatjana Polanc Kolander</a:t>
            </a:r>
            <a:br>
              <a:rPr sz="3000"/>
            </a:br>
            <a:br>
              <a:rPr sz="3000"/>
            </a:b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20. november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333440" cy="1181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Navigacija in struk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ea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linea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mpozit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erarhič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371484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34290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Oddelki multimedijskega produkcijskega proc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36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iskar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4800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uredništ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6400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vdiost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6400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deo- in avdioproduk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2819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rafično oblikov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0574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952880" y="3429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257800" y="1522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733920" cy="2427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imer portala E-revi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jektni pred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jne skup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žna strategija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erevir.si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886200" y="1600200"/>
            <a:ext cx="525780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34120" y="31240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Križi in težav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kip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lgi roki izve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gramir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p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stir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žurir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dgrad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886200" y="1752480"/>
            <a:ext cx="5029200" cy="4738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Uporabna vrednos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orabne vsebine (podatkovne ba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rog referenčnih avtorje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ektronsko opismenjevanje reg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lovno povezo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48320" y="2163600"/>
            <a:ext cx="3809880" cy="3749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rženje izdelk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981080" y="21337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94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dukcijski proces izdelave multimedijskega izdelka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2540160" cy="2527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Namen multimedijske produkc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redovanje izobraževalnih, poslovnih, razvedrilnih vsebin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redovanje preglednih vsebin multimedijsk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267080" y="4419720"/>
            <a:ext cx="1447920" cy="10666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Multimedijski element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5800" y="1828800"/>
            <a:ext cx="2359080" cy="1677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95280" y="4267080"/>
            <a:ext cx="1905120" cy="1866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12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sl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6248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zv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2819160" cy="1801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34120" y="3581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grafična animacij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46483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6483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T</a:t>
            </a:r>
            <a:r>
              <a:rPr b="0" lang="en-GB" sz="4400" spc="-1" strike="noStrike">
                <a:solidFill>
                  <a:srgbClr val="ffffff"/>
                </a:solidFill>
                <a:latin typeface="Showcard Gothic"/>
              </a:rPr>
              <a:t>e</a:t>
            </a:r>
            <a:r>
              <a:rPr b="0" lang="en-GB" sz="2400" spc="-1" strike="noStrike">
                <a:solidFill>
                  <a:srgbClr val="ffcc00"/>
                </a:solidFill>
                <a:latin typeface="Stencil"/>
              </a:rPr>
              <a:t>k</a:t>
            </a:r>
            <a:r>
              <a:rPr b="0" lang="en-GB" sz="2400" spc="-1" strike="noStrike">
                <a:solidFill>
                  <a:srgbClr val="ffffff"/>
                </a:solidFill>
                <a:latin typeface="Showcard Gothic"/>
              </a:rPr>
              <a:t>S</a:t>
            </a:r>
            <a:r>
              <a:rPr b="1" lang="en-GB" sz="4000" spc="-1" strike="noStrike">
                <a:solidFill>
                  <a:srgbClr val="ffcc00"/>
                </a:solidFill>
                <a:latin typeface="Footlight MT Light"/>
              </a:rPr>
              <a:t>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781680" y="4495680"/>
            <a:ext cx="1828800" cy="146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934320" y="60199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6019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Multimedijski produk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ltimedijs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aktiv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čmedijski (hypermed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čpovezavni (hyperli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produ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produ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16600" y="2133720"/>
            <a:ext cx="316368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 -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predprodukcij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2296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 -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produkcij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44704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 -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postprodukcij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44704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&amp;J</dc:creator>
  <dc:description/>
  <dc:language>en-US</dc:language>
  <cp:lastModifiedBy>T&amp;J</cp:lastModifiedBy>
  <cp:revision>0</cp:revision>
  <dc:subject/>
  <dc:title>PowerPoint Presentation</dc:title>
</cp:coreProperties>
</file>