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81F-59B2-4B5F-95E7-38D23FBC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4B3-0A24-4CDC-96FA-4EAFE486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05D-574F-43D4-A651-4D84C848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BA0-60D3-439B-A0D4-6B82FE02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DBF3-F4A0-43D5-8F30-4E3795CE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EC9D-7C56-4679-A4B0-9D42EE5D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BBA5-4A0D-4A6F-8E31-E3CDE8E6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5F6D-7B0E-4DEF-AD1C-1E62F68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D584-C156-4E60-BFCB-34091AB0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507-80C7-47FF-89D8-8811C254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9904-97EC-4461-BEEC-BDAE69B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F29-2A9B-4C0E-A2AB-073FF4E8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A5DA-13DD-4BAB-9D32-58F3B72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DC35-DF00-438C-B866-81A45EA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3B73-63FC-45E2-911F-214B663D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3082-2C17-4596-A0C1-D45A347E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3170-869A-4296-BEAC-9688A79B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F6D-FF51-43FE-A486-F3B798B5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7A1-2ABE-4453-BCCA-0D57C8B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A9D-2146-4C5C-8C57-F0767048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30C-8119-4FB6-9B0C-A342028D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5E1-577D-4B3D-B39C-A6D4FF7D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E80-05A3-44BB-913A-B50111A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BF2-8302-40B1-A930-8ABDD6D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09FF06-8063-4C16-B46F-5EDBA4C62218}" type="slidenum"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203DD7-04BA-4C36-8587-735B9BA57CCA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mafm.com/" TargetMode="External"/><Relationship Id="rId2" Type="http://schemas.openxmlformats.org/officeDocument/2006/relationships/hyperlink" Target="http://www.radio-locator.com/" TargetMode="External"/><Relationship Id="rId3" Type="http://schemas.openxmlformats.org/officeDocument/2006/relationships/hyperlink" Target="http://www.radio-locator.com/" TargetMode="External"/><Relationship Id="rId4" Type="http://schemas.openxmlformats.org/officeDocument/2006/relationships/hyperlink" Target="http://windows.hacker.la/clanki/internetni_radio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udio produkcija-radijska odd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00000" y="119700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a produkci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a produkcija progr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ustvarjanje program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o tehnološka skup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ekipa, ki skrbi za aparature in oprem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hnična produkcija progr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ovorna snemanja, predvajanja in izdelovanja radijskih oddaj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špiker-voditelj, novinar,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lasbena snemanja in režirane oddaj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radijski tehnik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Špiker – radijski tehn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37040" cy="61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Špiker govori v eter, vodi oddaj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hko dela sam OMB (One Man 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li pa mu pomaga tehnik, ki  skrbi za podlago, klice, glasb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32360" y="1598760"/>
            <a:ext cx="3240000" cy="21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vin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Novinar opravlja novinarsko delo na terenu, prinaša informacije, pripravlja prispevk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27640" y="30146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d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govorne (talk sh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lasb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formati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Zaba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14960" y="15987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79360" y="3922560"/>
            <a:ext cx="281628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293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i 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šalna miza (digital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tvor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agnetof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jačev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krofon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dvaj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čun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(komentatorski sis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5760" y="1940040"/>
            <a:ext cx="40370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ddaja se preko internetnega omrež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segljiv od vse povs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ečj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njše domač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ačunalnik, programska opre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roadcasting, streaming, codec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oma F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adio –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oc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Kako postaviti svoj internetni rad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24360" y="1593720"/>
            <a:ext cx="4751280" cy="415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