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3892-0F60-4C1C-84F2-7B76EC74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8F0F-7C36-45EA-A1D7-4086C6F3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C85-F28D-4E15-BA3D-2AA49614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456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140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456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140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3936-A597-4462-A289-911EB761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1E6C-E10F-41A5-9928-D926B299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6992-E143-48FC-9043-E58EC010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C06B-0B28-4DFE-9FA7-E10137D9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1058-E3E2-489F-A4B3-BE7FE67F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5C42-B9AF-4D7A-A518-327156BE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3000"/>
            <a:ext cx="8383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DDAB-8732-471C-A06E-20350E53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D70D-66A2-4F30-9F9F-4E64C7D6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6967-501B-4A9B-A4BE-FAD2BD2E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2F5D-74F4-4415-9255-A9FECE29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0899-4F73-4E5E-AB80-2FEBE5BA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EC2B-1CA8-4923-B545-6DDEE4BA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9AAB-BB9D-4986-A6CD-A451F103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456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140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456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140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9812-E954-4CF3-A2F0-81DF5D94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FD32-C552-4345-B119-1860AC2B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DD87-1B6D-4DDC-9029-7659FBED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CC1E-CAD9-45FC-BBF6-37A7414C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3000"/>
            <a:ext cx="8383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757E-BF2A-41DA-BC26-566AA4CD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EFFF-422D-4CDD-BAAE-FE9413FB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B3FD-156C-4DFC-B15F-7968EF04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0995-31CC-4659-8137-9A943EE8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F452A2-32BA-4F65-894E-906F31E90FFD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904760"/>
            <a:ext cx="777060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720" y="6245280"/>
            <a:ext cx="19000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2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9D6D4F8-D1B4-430A-9703-9D7BE4F754A7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99ff66"/>
                </a:solidFill>
                <a:latin typeface="Arial Black"/>
              </a:rPr>
              <a:t>Problem identitete in zasebnosti v medijih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tor: Bosnić Ed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Črvi (ang. Worm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širijo se preko omrežja in avtomatiziranih mehanizm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prva so neopazni kasneje pa se lahko kažejo v počasnosti sist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mogočajo dostop in nadzor nad našim računalnikom s strani tretjih ose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mogočajo brisanje datotek, spreminjanje nastavitev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385120" cy="25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Prevare z e-pošto </a:t>
            </a:r>
            <a:br>
              <a:rPr sz="4000"/>
            </a:b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(ang. E-mail spoofing)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v elektronski nabiralnik dobimo sporočilo od “sistemskega administratorja”, ki od nas zahteva menjavo ges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li elektronsko sporočilo, ki od nas zahteva da pošljemo kopije datotek z gesli in druge pomembne inform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512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Vohunjenje paketov </a:t>
            </a:r>
            <a:br>
              <a:rPr sz="4400"/>
            </a:b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(ang. Packet sniffing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ehnika, ki pregleduje in izloča informacije (gesla, uporabniška imena,..) iz informacijskih paket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 pridobljenimi podatki lahko vsiljivec sproži obsežen napad na sist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porabniki kabelskega dostopa so bolj ranljivi na takšne progr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Ribarjenje (ang. phishing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assword (geslo) + fishing (ribarjenj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lektronsko pismo ali spletna stran od nas zahteva, da vanjo vnesemo svoje finančne podatke ali ges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pletna stran ali elektronsko pismo sta na pogled identični originalni spletni strani ali pis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Pharm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eposredni napadi na DNS strežnike ali na datoteko o gostiteljih (ang. Hos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porabniki so nevede preusmerjeni na zlonamerne spletne stra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e strani so popolna kopija originalni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pa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poročilo, ki je poslano večjemu številu naslovnikov, z namenom vsiljevanja vsebine, ki se je naslovniki sami ne bi odločili prejema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v večini primerov gre za oglaševanje plačljivih storitev in izdelkov dvomljive kvalit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385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ttp://www.vodium.com/MP/MPF/1.1.8/mpf.asp?dataset=pn100311_fh_ftc&amp;eventid=83S99Z4O&amp;majver=7&amp;minver=0&amp;revver=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pyw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56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ogrami namenjen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prikritemu) zbiranju osebnih podatk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kazovanju oglasov (ang. adwa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eusmerjanju spletnih brskalnikov (ang. Browser hijack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z. različnim nezakonitim dejavnostim (ang. Malwa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Piškotki (ang. Cookie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nformacije, ki se ob obisku posamezne spletne strani shranijo na naš računalnik in so po potrebi ponovno uporabljen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v osnovi so zelo uporabni, nevarnost nam predstavljajo šele kadar so zlorabljeni za neprimerno upora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b7"/>
                </a:solidFill>
                <a:latin typeface="Arial Black"/>
              </a:rPr>
              <a:t>Nekaj nasvetov ob deskanju po spletu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ikoli ne odgovarjajmo na elektronska pisma, ki od nas zahtevajo osebne in finančne podat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o se prijavljamo na spletne strani, ki imajo karkoli opraviti z denarjem, njihov spletni (url) naslov obvezno vtipkamo direktno v naslovno vrs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sebnih in finančnih podatkov nikoli ne pošiljamo s pomočjo elektronske poš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 računalniku imamo vedno nameščene najnovejše popravke operacijskega sistema (npr. windows update) in posodobljen antivirusni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6520" y="1905120"/>
            <a:ext cx="8007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š brskalnik lahko nastavimo tako, da pred shranjevanjem piškotka na naš računalnik vpraša za dovoljenje in tako dobimo dober pregled nad tem, katere strani zbirajo in shranjujejo informacije o 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odimo pozorni tudi pri spletnem nakupovanju (nakupujmo v priznanih spletnih trgovinah, osebni podatki naj ostanejo zasebni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sa gesla ki jih uporabljamo, naj bodo močna (ni dobro uporabljati rojstnih datumov, telefonskih številk, ime psa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36520" y="1905120"/>
            <a:ext cx="800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ttp://www.vodium.com/MP/MPF/1.1.8/mpf.asp?dataset=pn100311_fh_ftc&amp;eventid=83S99Z4O&amp;majver=7&amp;minver=0&amp;revver=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088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b7"/>
                </a:solidFill>
                <a:latin typeface="Arial Black"/>
              </a:rPr>
              <a:t>Kraja identitete </a:t>
            </a:r>
            <a:br>
              <a:rPr sz="4800"/>
            </a:br>
            <a:r>
              <a:rPr b="1" lang="en-GB" sz="4800" spc="-1" strike="noStrike">
                <a:solidFill>
                  <a:srgbClr val="ffffb7"/>
                </a:solidFill>
                <a:latin typeface="Arial Black"/>
              </a:rPr>
              <a:t>(ang. Identity theft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b7"/>
                </a:solidFill>
                <a:latin typeface="Arial Black"/>
              </a:rPr>
              <a:t>Do naših osebnih podatkov lahko tatovi pridejo na več načinov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umpster d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ki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hi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hanging the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ld- fashioned ste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6520" y="1905120"/>
            <a:ext cx="8007480" cy="41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Včasih: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informacije o državljanih napisane na papirju in shranjene v arhivi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anes: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elektronska obdelava podatkov, večina osebnih podatkov shranjena v računalniškem siste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58880" y="426600"/>
            <a:ext cx="838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b7"/>
                </a:solidFill>
                <a:latin typeface="Arial Black"/>
              </a:rPr>
              <a:t>Osebni podatki o državljanih so lahko koristni predvsem z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36520" y="1905120"/>
            <a:ext cx="800748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ržavo (npr. zasledovanje za potrebe kazenskih pregonov ali finančnih preverjanj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ajne služ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znanstvene nam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atove identit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088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b7"/>
                </a:solidFill>
                <a:latin typeface="Arial Black"/>
              </a:rPr>
              <a:t>Namerne zlorabe našega računalnik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Trojanski konj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a od osnovnih različic škodljive programske opr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edstavlja se kot uporaben ali zabaven programč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ničuje datoteke in ustvari t.i. back do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retjim osebam omogoča popoln nadzor nad našim računalnikom in dadotekami na nj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Računalniški virus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širijo se samodej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kužijo “zdrave” programe ali datote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širijo se zelo hi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dina</dc:creator>
  <dc:description/>
  <dc:language>en-US</dc:language>
  <cp:lastModifiedBy>edina</cp:lastModifiedBy>
  <cp:revision>0</cp:revision>
  <dc:subject/>
  <dc:title>Problem identitete in zasebnosti v medijih</dc:title>
</cp:coreProperties>
</file>