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D0B-FCB8-4CE2-A1E5-E99C7850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7BC-861C-4B57-BC3D-B405ACB5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157-EE9D-4F84-A9AA-78EF57E4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D7F-A771-45AA-9D78-24079C1F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0D17-390C-4354-BDFB-6EF28C18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F1F4-6B18-44E4-A9AD-051CA2EF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7641-6BA2-493E-8B80-2088F0C5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C7BD-EAC7-488A-A01D-CBB536DC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9C2C-7863-4A6B-A2B7-FC64F114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8F53-AB70-434B-B5F7-B522B9AA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7DD6-3911-43E4-A38E-42A7A4AA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3D0-E5EB-4C41-824B-77F5AC2E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131F-AB42-4DE6-A84E-7C2B6C7A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3A16-385D-49CF-8BDB-5FD96D77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827E-0D8C-4B27-8E14-DCF440EB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5033-B3BD-4B76-BA0B-CA203601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561F-ECA9-4674-B393-6B9D9D59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278-804F-4B04-8993-E47F7AD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C54-E152-4AB4-88CA-6E11706A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CE5-93F4-4CB2-B635-8921D3ED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CB3-B307-42F1-8046-D3DE78F7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26D-4B0D-41ED-8B4B-4971A99C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FBB-37BC-4919-BC1B-CF934A92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539-E92C-42F1-8D08-1EA9BE7A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C58A97-D779-41B4-A053-C1DFF371F68B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617C3D-940F-4489-8888-58440D065ED5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3delavnica.com/" TargetMode="External"/><Relationship Id="rId3" Type="http://schemas.openxmlformats.org/officeDocument/2006/relationships/hyperlink" Target="http://www.3delavnica.com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83628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5790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uka Ž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jubljana, 20. 11.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7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Charles Emile Reynaud-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RAXINO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9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Eadweard James Muybridge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OPRAXI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4. Digitaln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k ustvarja na računalniku v digitalni obl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onuja nam možnost izražanja skozi sliko in zv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ožnost kombiniranja digitalne umetnosti z analognimi oblikam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področja digitaln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2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3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nožični med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glas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5. Razvoj računalniške grafik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0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se pojavijo prvi risal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3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Ivan Sutherland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napiše prvi risarski računalniški program, 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SKETCH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3640" y="208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191120" cy="3406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73392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769160" cy="70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ebruar 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5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Michael Noll, Georg Ness, Friede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Nake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rva razstava digitalne umetnosti na svetu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enerativna računalniška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onec šestdesetih v New York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AT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Eksperiments in art and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rvi poskusi računalniške animacije; brat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John in James Whit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9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skupin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SIGRAP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79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festival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RS ELECTRONICA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6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CENTER DIGITAL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85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M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5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odjetje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A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ustvari prvi računalniško animirani celovečerni film,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Toy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6. Digitalna umetnost v Slovenij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dward Zajec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4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KIBERK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XELPOI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3delavnica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Domen Lomber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Birth of venus, avtor Domen Lombergar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8672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38084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Net art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ne razstavljene in dostopne izključno prek inter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Generativna umetnost</a:t>
            </a:r>
            <a:r>
              <a:rPr b="1" lang="en-GB" sz="2400" spc="-1" strike="noStrike" u="sng">
                <a:solidFill>
                  <a:srgbClr val="9933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toda za razvoj idej in iskanje novih rešitev na vseh področjih človekovega ustvarjanja</a:t>
            </a: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2520" y="1066680"/>
            <a:ext cx="38084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Machinima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rst, ki je tesno povezana z računalniškimi i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Kaj je umetnost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2819520"/>
            <a:ext cx="7769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ejavnosti, katere namen je ustvarjanje del z estetsko vrednost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2. Vrst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asbe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i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edališ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odob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likarst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ipar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lesna umetnost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3. Kaj je namen umetnosti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6572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men umetnosti je catharsis, očiščenje, katerega doživi človek ob opazovanju umetniškega dela”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Aristo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Kaj je medij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2895120"/>
            <a:ext cx="7769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dij lahko opredelimo kot neke vrste naprave za prenos informac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1. Mediji v umetnosti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iz katerega je izdelano umetniško 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katerega je umetnik uporabil za izražanje v ustvarjalnem proc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95280" y="3048120"/>
          <a:ext cx="723924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8120"/>
                    <a:ext cx="7239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143000" y="3200400"/>
            <a:ext cx="7543800" cy="3429000"/>
            <a:chOff x="1143000" y="3200400"/>
            <a:chExt cx="7543800" cy="3429000"/>
          </a:xfrm>
        </p:grpSpPr>
        <p:grpSp>
          <p:nvGrpSpPr>
            <p:cNvPr id="104" name=""/>
            <p:cNvGrpSpPr/>
            <p:nvPr/>
          </p:nvGrpSpPr>
          <p:grpSpPr>
            <a:xfrm>
              <a:off x="1149480" y="3203640"/>
              <a:ext cx="7530840" cy="3422520"/>
              <a:chOff x="1149480" y="3203640"/>
              <a:chExt cx="7530840" cy="34225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49480" y="3203640"/>
                <a:ext cx="3765600" cy="347760"/>
                <a:chOff x="1149480" y="3203640"/>
                <a:chExt cx="3765600" cy="34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049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umetn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49480" y="32036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915080" y="3203640"/>
                <a:ext cx="3765240" cy="347760"/>
                <a:chOff x="4915080" y="3203640"/>
                <a:chExt cx="3765240" cy="34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9705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medi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915080" y="32036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149480" y="3549600"/>
                <a:ext cx="3765600" cy="347760"/>
                <a:chOff x="1149480" y="3549600"/>
                <a:chExt cx="3765600" cy="34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2049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lik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49480" y="35496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915080" y="3549600"/>
                <a:ext cx="3765240" cy="347760"/>
                <a:chOff x="4915080" y="3549600"/>
                <a:chExt cx="3765240" cy="34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9705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barva, plat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15080" y="35496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149480" y="3897360"/>
                <a:ext cx="3765600" cy="446040"/>
                <a:chOff x="1149480" y="3897360"/>
                <a:chExt cx="3765600" cy="446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2049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kip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49480" y="389736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15080" y="3897360"/>
                <a:ext cx="3765240" cy="446040"/>
                <a:chOff x="4915080" y="3897360"/>
                <a:chExt cx="3765240" cy="4460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705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zlične vrste kamnin, lahko tudi les ali glin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15080" y="389736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149480" y="4343400"/>
                <a:ext cx="3765600" cy="446040"/>
                <a:chOff x="1149480" y="4343400"/>
                <a:chExt cx="3765600" cy="446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049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arhitek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149480" y="434340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915080" y="4343400"/>
                <a:ext cx="3765240" cy="446040"/>
                <a:chOff x="4915080" y="4343400"/>
                <a:chExt cx="3765240" cy="446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9705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zemlja, opeka,les, kamen beton, železobeton, razne kovine in stekl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915080" y="434340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149480" y="4791240"/>
                <a:ext cx="3765600" cy="446040"/>
                <a:chOff x="1149480" y="4791240"/>
                <a:chExt cx="3765600" cy="446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2049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gra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49480" y="479124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915080" y="4791240"/>
                <a:ext cx="3765240" cy="446040"/>
                <a:chOff x="4915080" y="4791240"/>
                <a:chExt cx="3765240" cy="446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9705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aparat; - analogni (filmski trak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                 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- digitalni (fotosenzorji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15080" y="479124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149480" y="5237280"/>
                <a:ext cx="3765600" cy="347400"/>
                <a:chOff x="1149480" y="5237280"/>
                <a:chExt cx="3765600" cy="34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2049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isatel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49480" y="5237280"/>
                  <a:ext cx="376560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915080" y="5237280"/>
                <a:ext cx="3765240" cy="347400"/>
                <a:chOff x="4915080" y="5237280"/>
                <a:chExt cx="3765240" cy="34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9705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apir (knjig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15080" y="5237280"/>
                  <a:ext cx="376524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149480" y="5584680"/>
                <a:ext cx="3765600" cy="347760"/>
                <a:chOff x="1149480" y="5584680"/>
                <a:chExt cx="3765600" cy="34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2049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eži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149480" y="558468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915080" y="5584680"/>
                <a:ext cx="3765240" cy="347760"/>
                <a:chOff x="4915080" y="5584680"/>
                <a:chExt cx="3765240" cy="34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9705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video kamera, filmski trak, DV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15080" y="558468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149480" y="5932440"/>
                <a:ext cx="3765600" cy="347760"/>
                <a:chOff x="1149480" y="5932440"/>
                <a:chExt cx="3765600" cy="34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049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en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49480" y="59324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915080" y="5932440"/>
                <a:ext cx="3765240" cy="347760"/>
                <a:chOff x="4915080" y="5932440"/>
                <a:chExt cx="3765240" cy="34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9705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ilo, C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15080" y="59324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149480" y="6278400"/>
                <a:ext cx="3765600" cy="347760"/>
                <a:chOff x="1149480" y="6278400"/>
                <a:chExt cx="3765600" cy="347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049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pletni oblikovale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49480" y="62784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915080" y="6278400"/>
                <a:ext cx="3765240" cy="347760"/>
                <a:chOff x="4915080" y="6278400"/>
                <a:chExt cx="3765240" cy="347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9705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čunalnik, disk, spl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915080" y="62784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1143000" y="3200400"/>
              <a:ext cx="7543800" cy="342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695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ost, ki je bila ustvarjena s tehnologijo 20. stole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sprotje ali sodobni razvoj klasič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je v kakršnikoli povezavi s telekomunikacijami, množičnimi mediji in digitalnim načinom predstavitve nekega umetniškega izdel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790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1. Medijska umetnost v splošne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računalniš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igit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umet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enera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formacijs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ak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net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o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2. Zgodovina medijsk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34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ET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434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