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251-ADD5-406F-9FAA-F367DED8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707-12BD-47EB-900F-DE993266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D7C-3422-4DEF-9B89-37156C6A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B33-4600-47DA-B87F-16E48A1F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B63-312A-4405-ADF7-E0430EBE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364-73E9-4E6B-9DA0-F754A5E4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DE0-EDAF-4D4B-B0E8-8F788436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870-0FA4-4227-85DA-F40D78DB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E6E-FA2E-4426-A96F-38D78656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308-4D2F-4832-9A83-83C9CF50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460-5E81-4188-954D-DA91810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67E-B14A-41E2-91BC-B9F0ED7A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62B5-6030-402A-9A9E-DFF665543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916280"/>
            <a:ext cx="5040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040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"/>
          <p:cNvSpPr/>
          <p:nvPr/>
        </p:nvSpPr>
        <p:spPr>
          <a:xfrm>
            <a:off x="2268360" y="3500280"/>
            <a:ext cx="4969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33"/>
                </a:solidFill>
                <a:latin typeface="Arial Black"/>
              </a:rPr>
              <a:t>                                                   </a:t>
            </a:r>
            <a:r>
              <a:rPr b="0" i="1" lang="sl-SI" sz="1800" spc="-1" strike="noStrike" baseline="30000">
                <a:solidFill>
                  <a:srgbClr val="ff9966"/>
                </a:solidFill>
                <a:latin typeface="Arial Black"/>
              </a:rPr>
              <a:t>GSM:</a:t>
            </a:r>
            <a:r>
              <a:rPr b="0" i="1" lang="sl-SI" sz="1400" spc="-1" strike="noStrike">
                <a:solidFill>
                  <a:srgbClr val="ff9966"/>
                </a:solidFill>
                <a:latin typeface="Arial Black"/>
              </a:rPr>
              <a:t> 031/ 549-887</a:t>
            </a:r>
            <a:r>
              <a:rPr b="0" lang="sl-SI" sz="1400" spc="-1" strike="noStrike" baseline="30000">
                <a:solidFill>
                  <a:srgbClr val="996600"/>
                </a:solidFill>
                <a:latin typeface="Bodoni MT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1" lang="sl-SI" sz="2400" spc="-1" strike="noStrike" baseline="30000">
                <a:solidFill>
                  <a:srgbClr val="ffcc99"/>
                </a:solidFill>
                <a:latin typeface="Arial"/>
              </a:rPr>
              <a:t>email / ztehovnik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508464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2349360"/>
            <a:ext cx="216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0" lang="sl-SI" sz="2400" spc="-1" strike="noStrike" baseline="30000">
                <a:solidFill>
                  <a:srgbClr val="ff6600"/>
                </a:solidFill>
                <a:latin typeface="Arial Black"/>
              </a:rPr>
              <a:t>Obdelava</a:t>
            </a:r>
            <a:r>
              <a:rPr b="1" lang="sl-SI" sz="2000" spc="-1" strike="noStrike">
                <a:solidFill>
                  <a:srgbClr val="ff6600"/>
                </a:solidFill>
                <a:latin typeface="Arial"/>
              </a:rPr>
              <a:t>     fotograf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00"/>
                </a:solidFill>
                <a:latin typeface="Arial Unicode MS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263700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          </a:t>
            </a: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ŽIVA TEHOV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                    </a:t>
            </a: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GLINE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        </a:t>
            </a: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1291 ŠKOFLJ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2:17:01Z</dcterms:created>
  <dc:creator>*</dc:creator>
  <dc:description/>
  <dc:language>en-US</dc:language>
  <cp:lastModifiedBy>*</cp:lastModifiedBy>
  <dcterms:modified xsi:type="dcterms:W3CDTF">2006-10-31T16:44:12Z</dcterms:modified>
  <cp:revision>4</cp:revision>
  <dc:subject/>
  <dc:title>Slide 1</dc:title>
</cp:coreProperties>
</file>