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96CA-385C-402B-8753-93B637B1F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D2F2-4A6F-4EBD-B22B-4D7A6C33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6531-6802-464F-B070-B9CF53115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D7EC-1D86-4372-8920-7FE8F20F7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4176-0581-479F-9CF3-4FA275B72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96CD-2CA6-4A23-9D95-2F33210E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1269A-F82E-4741-A370-F4F88B9F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18A28-D180-4D3E-BF0F-5836E50B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C809-5659-40DE-8413-5B3DCE4C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9017-771F-4C96-AC5B-BD441A31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D818-895E-4B99-9274-8FFBD89B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5252-2066-43A3-9974-9FFA05E7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F278-F65A-4629-A9EC-158A5201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58D8-6558-471C-BFD4-CED9FAF6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7A21-914F-4C87-B0AB-5C937B41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A84A-CAC0-48A3-8A92-D207B8094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A597-34C8-4AEC-9B4C-66F24883E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F571-020A-41D9-9DD5-B830A916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3B42-6D8B-49D0-8A90-BA2991E8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9A72-68D2-403D-A4F0-62D41575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F666-6903-4122-9315-804D2D56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9CDF-5180-4B7E-930D-E310E558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DD65-222A-4394-B2A7-9D0647BA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02DA-200D-4789-A11E-9E42BBB9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4B1D-5553-4C48-9A13-22C8EA97D4F5}" type="slidenum">
              <a:rPr b="0" lang="sl-SI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47D3-4D00-4E00-ADC4-04486BA47C8A}" type="slidenum">
              <a:rPr b="0" lang="sl-SI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oja.posta.si/mainpage.asp?vsebina=3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like/narast%20uporabnikov%20inerneta.gif" TargetMode="External"/><Relationship Id="rId3" Type="http://schemas.openxmlformats.org/officeDocument/2006/relationships/hyperlink" Target="file:///slike/mapaparty.JPG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b7e7ff"/>
                </a:solidFill>
                <a:latin typeface="Cataneo BT"/>
              </a:rPr>
              <a:t>Pregled digitalnih multimedijskih</a:t>
            </a:r>
            <a:br>
              <a:rPr sz="4400"/>
            </a:br>
            <a:r>
              <a:rPr b="1" lang="sl-SI" sz="4400" spc="-1" strike="noStrike">
                <a:solidFill>
                  <a:srgbClr val="b7e7ff"/>
                </a:solidFill>
                <a:latin typeface="Cataneo BT"/>
              </a:rPr>
              <a:t>platform za poslovno rab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200" spc="-1" strike="noStrike">
                <a:solidFill>
                  <a:srgbClr val="ffcc00"/>
                </a:solidFill>
                <a:latin typeface="Cataneo BT"/>
              </a:rPr>
              <a:t>SKY IS THE LIMI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b7e7ff"/>
                </a:solidFill>
                <a:latin typeface="Cataneo BT"/>
              </a:rPr>
              <a:t>Prenos podatkov nekoč in dane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NEKOČ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ataneo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Pošiljanje pis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ataneo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Zvočni signa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ataneo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Svetlobni signa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ataneo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Izum telegrafa (S. Mor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DA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ataneo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Elekronska poš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ataneo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Telefon ; mobilnik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ataneo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Internet kot bum revoluci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076720" y="4437000"/>
            <a:ext cx="2303640" cy="2259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755640" y="4437000"/>
            <a:ext cx="280836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b7e7ff"/>
                </a:solidFill>
                <a:latin typeface="Cataneo BT"/>
              </a:rPr>
              <a:t>Pošta kot prenos podatkov za poslovno rabo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Pošta nekoč in dane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Namen Pošte in njihovih urado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Prihodnost Poš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moja.posta.s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181480" y="1676520"/>
            <a:ext cx="3125880" cy="2135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148360" y="4127400"/>
            <a:ext cx="3240000" cy="225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98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98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98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98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98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b7e7ff"/>
                </a:solidFill>
                <a:latin typeface="Cataneo BT"/>
              </a:rPr>
              <a:t>Telefon kot potreba za poslovnež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58920" y="1676160"/>
            <a:ext cx="259236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  </a:t>
            </a: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Skozi zgodovino je telefonski prenosljivi aparat postal potreba in ne več ugodje in razkošj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    </a:t>
            </a:r>
            <a:r>
              <a:rPr b="0" lang="sl-SI" sz="2800" spc="-1" strike="noStrike" u="sng">
                <a:solidFill>
                  <a:srgbClr val="ffcc00"/>
                </a:solidFill>
                <a:uFillTx/>
                <a:latin typeface="Cataneo BT"/>
                <a:hlinkClick r:id="rId2" action="ppaction://hlinksldjump"/>
              </a:rPr>
              <a:t>ZAKAJ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3873600" cy="2801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433600" cy="2808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924360" y="189000"/>
            <a:ext cx="3241440" cy="2808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108000" y="3500280"/>
            <a:ext cx="2765520" cy="2881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2843280" y="3500280"/>
            <a:ext cx="2881080" cy="2847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5724360" y="3500280"/>
            <a:ext cx="3311640" cy="28036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b7e7ff"/>
                </a:solidFill>
                <a:latin typeface="Cataneo BT"/>
              </a:rPr>
              <a:t>Internet in njegov razvoj </a:t>
            </a:r>
            <a:br>
              <a:rPr sz="4000"/>
            </a:br>
            <a:r>
              <a:rPr b="0" lang="sl-SI" sz="3600" spc="-1" strike="noStrike">
                <a:solidFill>
                  <a:srgbClr val="b7e7ff"/>
                </a:solidFill>
                <a:latin typeface="Cataneo BT"/>
              </a:rPr>
              <a:t>(</a:t>
            </a:r>
            <a:r>
              <a:rPr b="0" lang="sl-SI" sz="3600" spc="-1" strike="noStrike">
                <a:solidFill>
                  <a:srgbClr val="ee941c"/>
                </a:solidFill>
                <a:latin typeface="Cataneo BT"/>
              </a:rPr>
              <a:t>1983</a:t>
            </a:r>
            <a:r>
              <a:rPr b="0" lang="sl-SI" sz="3600" spc="-1" strike="noStrike">
                <a:solidFill>
                  <a:srgbClr val="b7e7ff"/>
                </a:solidFill>
                <a:latin typeface="Cataneo BT"/>
              </a:rPr>
              <a:t> ~ </a:t>
            </a:r>
            <a:r>
              <a:rPr b="0" lang="sl-SI" sz="3600" spc="-1" strike="noStrike">
                <a:solidFill>
                  <a:srgbClr val="ee941c"/>
                </a:solidFill>
                <a:latin typeface="Cataneo BT"/>
              </a:rPr>
              <a:t>2000</a:t>
            </a:r>
            <a:r>
              <a:rPr b="0" lang="sl-SI" sz="3600" spc="-1" strike="noStrike">
                <a:solidFill>
                  <a:srgbClr val="b7e7ff"/>
                </a:solidFill>
                <a:latin typeface="Cataneo BT"/>
              </a:rPr>
              <a:t>)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73432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 </a:t>
            </a: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~Leta 1983 se internet razpase med ljudi in ustanovitelji beležij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  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200 gostiteljev interneta</a:t>
            </a: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 </a:t>
            </a: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~Leta 1996, trinajst let kasneje ustanovitelji beležij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  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10 – 12 milijonov uporabnikov in 100.000,00 web stra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 </a:t>
            </a: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~Leta 2000 pa število uporabnikov v štirih letih poskoči 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  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domnevnih 150 milijonov uporabnikov in 20 milonov web stra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900" spc="-1" strike="noStrike" u="sng">
                <a:solidFill>
                  <a:srgbClr val="ffcc00"/>
                </a:solidFill>
                <a:uFillTx/>
                <a:latin typeface="Cataneo BT"/>
                <a:hlinkClick r:id="rId2"/>
              </a:rPr>
              <a:t>Tabela</a:t>
            </a:r>
            <a:r>
              <a:rPr b="0" lang="sl-SI" sz="900" spc="-1" strike="noStrike">
                <a:solidFill>
                  <a:srgbClr val="fd2f0d"/>
                </a:solidFill>
                <a:latin typeface="Cataneo BT"/>
              </a:rPr>
              <a:t>     </a:t>
            </a:r>
            <a:r>
              <a:rPr b="0" lang="sl-SI" sz="900" spc="-1" strike="noStrike" u="sng">
                <a:solidFill>
                  <a:srgbClr val="ffcc00"/>
                </a:solidFill>
                <a:uFillTx/>
                <a:latin typeface="Cataneo BT"/>
                <a:hlinkClick r:id="rId3"/>
              </a:rPr>
              <a:t>Tabela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4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b7e7ff"/>
                </a:solidFill>
                <a:latin typeface="Cataneo BT"/>
              </a:rPr>
              <a:t>Internet, Intranet in Extrane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483920"/>
            <a:ext cx="8591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Internet </a:t>
            </a: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; </a:t>
            </a:r>
            <a:r>
              <a:rPr b="0" lang="sl-SI" sz="2000" spc="-1" strike="noStrike">
                <a:solidFill>
                  <a:srgbClr val="ee941c"/>
                </a:solidFill>
                <a:latin typeface="Cataneo BT"/>
              </a:rPr>
              <a:t>je rzličica spleta, kot jo pozna vsaka fizična oseba, ki je kdaj koli imela dostop do spleta 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www ( w</a:t>
            </a:r>
            <a:r>
              <a:rPr b="0" lang="sl-SI" sz="2000" spc="-1" strike="noStrike">
                <a:solidFill>
                  <a:srgbClr val="ffffff"/>
                </a:solidFill>
                <a:latin typeface="Cataneo BT"/>
              </a:rPr>
              <a:t>orld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w</a:t>
            </a:r>
            <a:r>
              <a:rPr b="0" lang="sl-SI" sz="2000" spc="-1" strike="noStrike">
                <a:solidFill>
                  <a:srgbClr val="ffffff"/>
                </a:solidFill>
                <a:latin typeface="Cataneo BT"/>
              </a:rPr>
              <a:t>ide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w</a:t>
            </a:r>
            <a:r>
              <a:rPr b="0" lang="sl-SI" sz="2000" spc="-1" strike="noStrike">
                <a:solidFill>
                  <a:srgbClr val="ffffff"/>
                </a:solidFill>
                <a:latin typeface="Cataneo BT"/>
              </a:rPr>
              <a:t>eb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Intranet </a:t>
            </a: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; </a:t>
            </a:r>
            <a:r>
              <a:rPr b="0" lang="sl-SI" sz="2000" spc="-1" strike="noStrike">
                <a:solidFill>
                  <a:srgbClr val="ee941c"/>
                </a:solidFill>
                <a:latin typeface="Cataneo BT"/>
              </a:rPr>
              <a:t>je različica spleta, ki je zelo korporativna za večja podjetja z potrebo po med sebojno povezavo ( interno ) 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wan (w</a:t>
            </a:r>
            <a:r>
              <a:rPr b="0" lang="sl-SI" sz="2000" spc="-1" strike="noStrike">
                <a:solidFill>
                  <a:srgbClr val="ffffff"/>
                </a:solidFill>
                <a:latin typeface="Cataneo BT"/>
              </a:rPr>
              <a:t>ide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 a</a:t>
            </a:r>
            <a:r>
              <a:rPr b="0" lang="sl-SI" sz="2000" spc="-1" strike="noStrike">
                <a:solidFill>
                  <a:srgbClr val="ffffff"/>
                </a:solidFill>
                <a:latin typeface="Cataneo BT"/>
              </a:rPr>
              <a:t>rea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 n</a:t>
            </a:r>
            <a:r>
              <a:rPr b="0" lang="sl-SI" sz="2000" spc="-1" strike="noStrike">
                <a:solidFill>
                  <a:srgbClr val="ffffff"/>
                </a:solidFill>
                <a:latin typeface="Cataneo BT"/>
              </a:rPr>
              <a:t>etwork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Extranet </a:t>
            </a: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; </a:t>
            </a:r>
            <a:r>
              <a:rPr b="0" lang="sl-SI" sz="2000" spc="-1" strike="noStrike">
                <a:solidFill>
                  <a:srgbClr val="ee941c"/>
                </a:solidFill>
                <a:latin typeface="Cataneo BT"/>
              </a:rPr>
              <a:t>extranet aplikacije izvajajo, prevzamejo od podjetja intranet in ga razširijo, v varne, privatne dele in ostala partnerska podjetja.</a:t>
            </a: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11280" y="5229360"/>
            <a:ext cx="7921440" cy="1352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b7e7ff"/>
                </a:solidFill>
                <a:latin typeface="Cataneo BT"/>
              </a:rPr>
              <a:t>Prenos podatkov, kot pomembni dejavnik</a:t>
            </a:r>
            <a:br>
              <a:rPr sz="4000"/>
            </a:br>
            <a:r>
              <a:rPr b="0" lang="sl-SI" sz="4000" spc="-1" strike="noStrike">
                <a:solidFill>
                  <a:srgbClr val="b7e7ff"/>
                </a:solidFill>
                <a:latin typeface="Cataneo BT"/>
              </a:rPr>
              <a:t>za razvoj civilizacije </a:t>
            </a:r>
            <a:br>
              <a:rPr sz="4000"/>
            </a:br>
            <a:r>
              <a:rPr b="0" lang="sl-SI" sz="2400" spc="-1" strike="noStrike">
                <a:solidFill>
                  <a:srgbClr val="ffcc00"/>
                </a:solidFill>
                <a:latin typeface="Cataneo BT"/>
              </a:rPr>
              <a:t>Moramo se vprašati “kaj bi danes brez podatkov?”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042920" y="1916280"/>
            <a:ext cx="7056360" cy="4703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4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e941c"/>
                </a:solidFill>
                <a:latin typeface="Cataneo BT"/>
              </a:rPr>
              <a:t>Zato prosim bodite prijazni do svojega</a:t>
            </a:r>
            <a:br>
              <a:rPr sz="4000"/>
            </a:br>
            <a:r>
              <a:rPr b="0" lang="sl-SI" sz="4000" spc="-1" strike="noStrike">
                <a:solidFill>
                  <a:srgbClr val="ee941c"/>
                </a:solidFill>
                <a:latin typeface="Cataneo BT"/>
              </a:rPr>
              <a:t>računalnika!</a:t>
            </a:r>
            <a:br>
              <a:rPr sz="4000"/>
            </a:br>
            <a:r>
              <a:rPr b="0" lang="sl-SI" sz="4000" spc="-1" strike="noStrike">
                <a:solidFill>
                  <a:srgbClr val="ee941c"/>
                </a:solidFill>
                <a:latin typeface="Cataneo BT"/>
              </a:rPr>
              <a:t>hval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26920" y="1758960"/>
            <a:ext cx="7201080" cy="491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7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5:44:49Z</dcterms:created>
  <dc:creator>uros</dc:creator>
  <dc:description/>
  <dc:language>en-US</dc:language>
  <cp:lastModifiedBy>uros</cp:lastModifiedBy>
  <dcterms:modified xsi:type="dcterms:W3CDTF">2006-11-20T08:59:31Z</dcterms:modified>
  <cp:revision>26</cp:revision>
  <dc:subject/>
  <dc:title>Pregled digitalnih multimedijskih platform za poslovno rabo</dc:title>
</cp:coreProperties>
</file>