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DFF-D639-4B67-B10F-23A44E19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E87-B1C1-481C-B0BE-3EC44CC2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6BE-AE45-41E1-A47C-64E86FE1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8B4-CFC5-473C-B03D-41E77FD2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1E5A-D7E3-45E7-9153-FF8A8A62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6395-1E3A-49E0-9338-8922FB21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37AF-4089-460C-9850-CC109A45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63DA-523C-4540-92AE-7EF7DCD3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3110-7024-4471-8B0A-BD6891FA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B8C3-4A82-4E68-80AE-CC6E3CB2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A324-CD2E-4FBF-96F7-F6DFB553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D79-135F-4186-920B-A1D77E7C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E636-B842-429A-B6AD-0B9D87B2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63F7-C4F6-4150-A6CD-6A3A882E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E4EE-DBCD-4652-8EBB-1CC4FFD8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FB5F-CEF2-4FB5-80CF-67C990D4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4C9C-F189-4602-8D10-CF2AFC81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1B5-AFC9-4D8C-BAB9-F1F0D06B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62F-205C-4032-B160-07AFF6A8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4B0-19BC-44F9-8C60-8A774B08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CFD-023F-4F5C-9394-CE4E12B7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F9A-02D8-4EE9-8D04-D1397AD6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49B-F6D8-48CF-B946-266BC4EB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169-7D7F-4B86-AFA5-597B5097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lnTo>
                    <a:pt x="0" y="3587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07D789-EB2D-4756-9403-02E236943D03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lnTo>
                    <a:pt x="0" y="3587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1E3C14-BBC9-4325-81FD-A9DA34A95022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revir.si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edstavitev seminarske nalog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MS Gothic"/>
              </a:rPr>
              <a:t>Osnove multimedijev</a:t>
            </a:r>
            <a:br>
              <a:rPr sz="3200"/>
            </a:br>
            <a:r>
              <a:rPr b="0" i="1" lang="en-GB" sz="3000" spc="-1" strike="noStrike">
                <a:solidFill>
                  <a:srgbClr val="ffffff"/>
                </a:solidFill>
                <a:latin typeface="Arial"/>
                <a:ea typeface="MS Gothic"/>
              </a:rPr>
              <a:t>Mentor: dr. Peter Purg</a:t>
            </a:r>
            <a:br>
              <a:rPr sz="3000"/>
            </a:br>
            <a:r>
              <a:rPr b="0" i="1" lang="en-GB" sz="3000" spc="-1" strike="noStrike">
                <a:solidFill>
                  <a:srgbClr val="ffffff"/>
                </a:solidFill>
                <a:latin typeface="Arial"/>
                <a:ea typeface="MS Gothic"/>
              </a:rPr>
              <a:t>Avtor: Tatjana Polanc Kolander</a:t>
            </a:r>
            <a:br>
              <a:rPr sz="3000"/>
            </a:br>
            <a:br>
              <a:rPr sz="3000"/>
            </a:b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20. november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33344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Navigacija in struk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ea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linea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mpozit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erarhič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371484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3429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Oddelki multimedijskega produkcijskega 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iska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uredništ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vdiost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6400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deo- in avdioproduk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819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rafično obliko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0574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952880" y="3429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257800" y="152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733920" cy="2427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imer portala E-revi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ktni pred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jne skup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žna strategija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erevir.si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52578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34120" y="31240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Križi in težav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kip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lgi roki izve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gram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p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st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žur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dgrad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886200" y="1752480"/>
            <a:ext cx="5029200" cy="4738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Uporabna vrednos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orabne vsebine (podatkovne ba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rog referenčnih avtorj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ktronsko opismenjevanje reg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lovno povezo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8320" y="2163600"/>
            <a:ext cx="3809880" cy="3749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rženje izdelk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981080" y="21337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dukcijski proces izdelave multimedijskega izdelka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540160" cy="2527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Namen multimedijske produkc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redovanje izobraževalnih, poslovnih, razvedrilnih vsebin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redovanje preglednih vsebin multimedijs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267080" y="4419720"/>
            <a:ext cx="1447920" cy="10666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Multimedijski element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5800" y="1828800"/>
            <a:ext cx="2359080" cy="1677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1905120" cy="1866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sl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6248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zv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2819160" cy="1801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34120" y="3581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grafična animacij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648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6483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T</a:t>
            </a:r>
            <a:r>
              <a:rPr b="0" lang="en-GB" sz="4400" spc="-1" strike="noStrike">
                <a:solidFill>
                  <a:srgbClr val="ffffff"/>
                </a:solidFill>
                <a:latin typeface="Showcard Gothic"/>
              </a:rPr>
              <a:t>e</a:t>
            </a:r>
            <a:r>
              <a:rPr b="0" lang="en-GB" sz="2400" spc="-1" strike="noStrike">
                <a:solidFill>
                  <a:srgbClr val="ffcc00"/>
                </a:solidFill>
                <a:latin typeface="Stencil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Showcard Gothic"/>
              </a:rPr>
              <a:t>S</a:t>
            </a:r>
            <a:r>
              <a:rPr b="1" lang="en-GB" sz="4000" spc="-1" strike="noStrike">
                <a:solidFill>
                  <a:srgbClr val="ffcc00"/>
                </a:solidFill>
                <a:latin typeface="Footlight MT Light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781680" y="4495680"/>
            <a:ext cx="1828800" cy="146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934320" y="60199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01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Multimedijski produk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ltimedij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aktiv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čmedijski (hyperm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čpovezavni (hyper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16600" y="2133720"/>
            <a:ext cx="316368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red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229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44704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ost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4704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&amp;J</dc:creator>
  <dc:description/>
  <dc:language>en-US</dc:language>
  <cp:lastModifiedBy>T&amp;J</cp:lastModifiedBy>
  <cp:revision>0</cp:revision>
  <dc:subject/>
  <dc:title>PowerPoint Presentation</dc:title>
</cp:coreProperties>
</file>