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019F-712A-4C5E-8F06-8B019E026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BEED-36E4-48AF-87EA-1AF2DFE3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6842-E2BB-4C0A-B79C-3740204C9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7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7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07B5-35A3-4E30-9112-1554E499B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4C64-4372-4857-935F-4EEE48CD6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CCB5-395B-46DE-A36A-7A2C9868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52AA-892A-4154-9A25-8A58590D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8FBD-A5DE-4CE4-9274-55044763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FA25-80F4-4BC2-8F74-501AFBC2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760" y="127080"/>
            <a:ext cx="82245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6D69-068C-4B0C-93B0-A36E7836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F5F2-E58A-49C0-8D50-292D80B5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85C5-C148-45CF-93F6-BC507022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1AC1-259D-4D3D-99A6-83546D2A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A7D4-43EE-4093-BF16-015BA3B0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1FD2-BC77-4C91-A46F-6E7E2ACA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EA2B-6058-4796-99DB-1E1723851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7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7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9BBE-3C18-4BAF-8609-94C74C12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240B-20C4-4310-A964-36A2D764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58EE-2A43-432B-9A06-6FB98009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CA54-366D-4EF8-93F0-38614560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760" y="127080"/>
            <a:ext cx="82245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DDD5-1AAF-4BD5-B760-A4E0C186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2E26-637F-4010-B014-CE228C5D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2EA9-2D26-4E40-865D-AC7A1B82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0285-0B64-4F60-AFF9-01E51BC0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286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eaeaea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Arial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3720" y="6241680"/>
            <a:ext cx="2894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eaeaea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Arial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29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eaeaea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EEA7813-7980-4F05-8F1D-FFFF779A5E6B}" type="slidenum">
              <a:rPr b="0" lang="en-GB" sz="1000" spc="-1" strike="noStrike">
                <a:solidFill>
                  <a:srgbClr val="eaeaea"/>
                </a:solidFill>
                <a:latin typeface="Arial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245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286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3720" y="6241680"/>
            <a:ext cx="2894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29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709B3D7-9864-43DA-8854-F21DA5E938B2}" type="slidenum">
              <a:rPr b="0" lang="en-GB" sz="10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omafm.com/" TargetMode="External"/><Relationship Id="rId2" Type="http://schemas.openxmlformats.org/officeDocument/2006/relationships/hyperlink" Target="http://www.radio-locator.com/" TargetMode="External"/><Relationship Id="rId3" Type="http://schemas.openxmlformats.org/officeDocument/2006/relationships/hyperlink" Target="http://www.radio-locator.com/" TargetMode="External"/><Relationship Id="rId4" Type="http://schemas.openxmlformats.org/officeDocument/2006/relationships/hyperlink" Target="http://windows.hacker.la/clanki/internetni_radio.html" TargetMode="Externa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Audio produkcija-radijska oddaj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900000" y="1197000"/>
            <a:ext cx="7201080" cy="54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Radijska produkcij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Tehnična produkcija program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(ustvarjanje programa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Tehnično tehnološka skupin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(ekipa, ki skrbi za aparature in oprem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ehnična produkcija program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kupina za govorna snemanja, predvajanja in izdelovanja radijskih oddaj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(špiker-voditelj, novinar, 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kupina za glasbena snemanja in režirane oddaj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(radijski tehniki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Špiker – radijski tehni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4037040" cy="61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Špiker govori v eter, vodi oddajo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Lahko dela sam OMB (One Man Band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Ali pa mu pomaga tehnik, ki  skrbi za podlago, klice, glasbo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932360" y="1598760"/>
            <a:ext cx="3240000" cy="21636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932360" y="3933720"/>
            <a:ext cx="3240000" cy="21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Novin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Novinar opravlja novinarsko delo na terenu, prinaša informacije, pripravlja prispevke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427640" y="3014640"/>
            <a:ext cx="4105080" cy="30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Oddaj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8360" y="1628640"/>
            <a:ext cx="4032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Pogovorne (talk show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Glasbe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Informativ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Zabav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214960" y="1598760"/>
            <a:ext cx="2670120" cy="20034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179360" y="3922560"/>
            <a:ext cx="2816280" cy="23655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5219640" y="3933720"/>
            <a:ext cx="229392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Radijski studi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ešalna miza (digitalna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Pretvornik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agnetofon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Ojačevalnik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onitor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ikrofon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Predvajalnik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Računalnik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(komentatorski sistem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5760" y="1940040"/>
            <a:ext cx="4037040" cy="38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Internetni radi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52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Oddaja se preko internetnega omrežj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Dosegljiv od vse povso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Večje radijske postaj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Manjše domače radijske postaj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Računalnik, programska oprem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Broadcasting, streaming, codec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MP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Internetni radi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oma F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Winam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Radio –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Loc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5b2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Kako postaviti svoj internetni radi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3924360" y="1593720"/>
            <a:ext cx="4751280" cy="415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