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86CF-E7C9-4DB0-B120-A8F910CA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EAC8-80CC-4177-930D-69D7EC87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D798-4889-4ADB-8E82-6A0B40B3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78DC-17A2-42B7-AE90-BE26F5FB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9130-C4D7-4959-8AC6-1C4A8A79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9BE1-0078-4D87-B2D4-607092AB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BD3B-D7BB-4D90-B49B-50208942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E1E1-8E0C-4570-9C7F-2836B984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10C5-887F-4A10-98E2-F631332F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BC1B-6C8C-4B07-9F0C-7521E357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AF13-6110-4836-ABF3-64ABB9CC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0645-3A9E-4CC9-99D6-8D50A84C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3890-6A43-4D8C-AEB2-5DAC06E5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3A92-C3A8-4BA1-9AD1-595AE21B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F479-45FD-495B-89BD-DF50BA6D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5BC9-C079-4E1F-9599-F28A4F6F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D120-E8FF-4FCC-BCDF-699B1263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A841-226A-4503-8D20-9EB261B5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C79C-D149-43BD-8CC9-9C37D25B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284-C9C7-4E9D-A35F-D8A9138A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9ACA-83FC-41D2-AA70-C969C25F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770C-3E63-4644-8FAD-FD1BAC0B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C6F6-C36D-4366-B61D-C44953D0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783F-FAC2-4E29-9FE7-4AD4C543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953B-8AB0-4990-8C28-12C6DF15A373}" type="slidenum"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7B30-3068-4CA7-B274-E84EF5430B60}" type="slidenum"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ja.posta.si/mainpage.asp?vsebina=3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like/narast%20uporabnikov%20inerneta.gif" TargetMode="External"/><Relationship Id="rId3" Type="http://schemas.openxmlformats.org/officeDocument/2006/relationships/hyperlink" Target="file:///slike/mapaparty.JPG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b7e7ff"/>
                </a:solidFill>
                <a:latin typeface="Cataneo BT"/>
              </a:rPr>
              <a:t>Pregled digitalnih multimedijskih</a:t>
            </a:r>
            <a:br>
              <a:rPr sz="4400"/>
            </a:br>
            <a:r>
              <a:rPr b="1" lang="sl-SI" sz="4400" spc="-1" strike="noStrike">
                <a:solidFill>
                  <a:srgbClr val="b7e7ff"/>
                </a:solidFill>
                <a:latin typeface="Cataneo BT"/>
              </a:rPr>
              <a:t>platform za poslovno rab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200" spc="-1" strike="noStrike">
                <a:solidFill>
                  <a:srgbClr val="ffcc00"/>
                </a:solidFill>
                <a:latin typeface="Cataneo BT"/>
              </a:rPr>
              <a:t>SKY IS THE LIMI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Prenos podatkov nekoč in dane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NEKOČ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Pošiljanje pis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Zvočni sign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Svetlobni sign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Izum telegrafa (S. Mor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D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Elekronska poš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Telefon ; mobilni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Internet kot bum revolu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076720" y="4437000"/>
            <a:ext cx="2303640" cy="2259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55640" y="4437000"/>
            <a:ext cx="28083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b7e7ff"/>
                </a:solidFill>
                <a:latin typeface="Cataneo BT"/>
              </a:rPr>
              <a:t>Pošta kot prenos podatkov za poslovno rabo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Pošta nekoč in dan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Namen Pošte in njihovih urad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Prihodnost Poš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moja.posta.s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3125880" cy="2135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148360" y="4127400"/>
            <a:ext cx="3240000" cy="225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Telefon kot potreba za poslovnež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58920" y="1676160"/>
            <a:ext cx="25923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  </a:t>
            </a: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Skozi zgodovino je telefonski prenosljivi aparat postal potreba in ne več ugodje in razkošj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    </a:t>
            </a:r>
            <a:r>
              <a:rPr b="0" lang="sl-SI" sz="2800" spc="-1" strike="noStrike" u="sng">
                <a:solidFill>
                  <a:srgbClr val="ffcc00"/>
                </a:solidFill>
                <a:uFillTx/>
                <a:latin typeface="Cataneo BT"/>
                <a:hlinkClick r:id="rId2" action="ppaction://hlinksldjump"/>
              </a:rPr>
              <a:t>ZAKAJ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873600" cy="2801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43360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924360" y="189000"/>
            <a:ext cx="3241440" cy="280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2765520" cy="2881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2843280" y="3500280"/>
            <a:ext cx="2881080" cy="2847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5724360" y="3500280"/>
            <a:ext cx="3311640" cy="2803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Internet in njegov razvoj </a:t>
            </a:r>
            <a:br>
              <a:rPr sz="4000"/>
            </a:br>
            <a:r>
              <a:rPr b="0" lang="sl-SI" sz="3600" spc="-1" strike="noStrike">
                <a:solidFill>
                  <a:srgbClr val="b7e7ff"/>
                </a:solidFill>
                <a:latin typeface="Cataneo BT"/>
              </a:rPr>
              <a:t>(</a:t>
            </a:r>
            <a:r>
              <a:rPr b="0" lang="sl-SI" sz="3600" spc="-1" strike="noStrike">
                <a:solidFill>
                  <a:srgbClr val="ee941c"/>
                </a:solidFill>
                <a:latin typeface="Cataneo BT"/>
              </a:rPr>
              <a:t>1983</a:t>
            </a:r>
            <a:r>
              <a:rPr b="0" lang="sl-SI" sz="3600" spc="-1" strike="noStrike">
                <a:solidFill>
                  <a:srgbClr val="b7e7ff"/>
                </a:solidFill>
                <a:latin typeface="Cataneo BT"/>
              </a:rPr>
              <a:t> ~ </a:t>
            </a:r>
            <a:r>
              <a:rPr b="0" lang="sl-SI" sz="3600" spc="-1" strike="noStrike">
                <a:solidFill>
                  <a:srgbClr val="ee941c"/>
                </a:solidFill>
                <a:latin typeface="Cataneo BT"/>
              </a:rPr>
              <a:t>2000</a:t>
            </a:r>
            <a:r>
              <a:rPr b="0" lang="sl-SI" sz="3600" spc="-1" strike="noStrike">
                <a:solidFill>
                  <a:srgbClr val="b7e7ff"/>
                </a:solidFill>
                <a:latin typeface="Cataneo BT"/>
              </a:rPr>
              <a:t>)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7343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~Leta 1983 se internet razpase med ljudi in ustanovitelji beležij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200 gostiteljev interneta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~Leta 1996, trinajst let kasneje ustanovitelji belež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10 – 12 milijonov uporabnikov in 100.000,00 web str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~Leta 2000 pa število uporabnikov v štirih letih poskoči 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domnevnih 150 milijonov uporabnikov in 20 milonov web str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00" spc="-1" strike="noStrike" u="sng">
                <a:solidFill>
                  <a:srgbClr val="ffcc00"/>
                </a:solidFill>
                <a:uFillTx/>
                <a:latin typeface="Cataneo BT"/>
                <a:hlinkClick r:id="rId2"/>
              </a:rPr>
              <a:t>Tabela</a:t>
            </a:r>
            <a:r>
              <a:rPr b="0" lang="sl-SI" sz="900" spc="-1" strike="noStrike">
                <a:solidFill>
                  <a:srgbClr val="fd2f0d"/>
                </a:solidFill>
                <a:latin typeface="Cataneo BT"/>
              </a:rPr>
              <a:t>     </a:t>
            </a:r>
            <a:r>
              <a:rPr b="0" lang="sl-SI" sz="900" spc="-1" strike="noStrike" u="sng">
                <a:solidFill>
                  <a:srgbClr val="ffcc00"/>
                </a:solidFill>
                <a:uFillTx/>
                <a:latin typeface="Cataneo BT"/>
                <a:hlinkClick r:id="rId3"/>
              </a:rPr>
              <a:t>Tabela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b7e7ff"/>
                </a:solidFill>
                <a:latin typeface="Cataneo BT"/>
              </a:rPr>
              <a:t>Internet, Intranet in Extrane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483920"/>
            <a:ext cx="8591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Internet </a:t>
            </a: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; </a:t>
            </a:r>
            <a:r>
              <a:rPr b="0" lang="sl-SI" sz="2000" spc="-1" strike="noStrike">
                <a:solidFill>
                  <a:srgbClr val="ee941c"/>
                </a:solidFill>
                <a:latin typeface="Cataneo BT"/>
              </a:rPr>
              <a:t>je rzličica spleta, kot jo pozna vsaka fizična oseba, ki je kdaj koli imela dostop do spleta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ww ( 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orld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ide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eb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Intranet </a:t>
            </a: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; </a:t>
            </a:r>
            <a:r>
              <a:rPr b="0" lang="sl-SI" sz="2000" spc="-1" strike="noStrike">
                <a:solidFill>
                  <a:srgbClr val="ee941c"/>
                </a:solidFill>
                <a:latin typeface="Cataneo BT"/>
              </a:rPr>
              <a:t>je različica spleta, ki je zelo korporativna za večja podjetja z potrebo po med sebojno povezavo ( interno )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an (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ide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a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rea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n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etwork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Extranet </a:t>
            </a: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; </a:t>
            </a:r>
            <a:r>
              <a:rPr b="0" lang="sl-SI" sz="2000" spc="-1" strike="noStrike">
                <a:solidFill>
                  <a:srgbClr val="ee941c"/>
                </a:solidFill>
                <a:latin typeface="Cataneo BT"/>
              </a:rPr>
              <a:t>extranet aplikacije izvajajo, prevzamejo od podjetja intranet in ga razširijo, v varne, privatne dele in ostala partnerska podjetja.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1280" y="5229360"/>
            <a:ext cx="7921440" cy="1352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Prenos podatkov, kot pomembni dejavnik</a:t>
            </a:r>
            <a:br>
              <a:rPr sz="4000"/>
            </a:b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za razvoj civilizacije </a:t>
            </a:r>
            <a:br>
              <a:rPr sz="4000"/>
            </a:br>
            <a:r>
              <a:rPr b="0" lang="sl-SI" sz="2400" spc="-1" strike="noStrike">
                <a:solidFill>
                  <a:srgbClr val="ffcc00"/>
                </a:solidFill>
                <a:latin typeface="Cataneo BT"/>
              </a:rPr>
              <a:t>Moramo se vprašati “kaj bi danes brez podatkov?”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7056360" cy="4703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4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e941c"/>
                </a:solidFill>
                <a:latin typeface="Cataneo BT"/>
              </a:rPr>
              <a:t>Zato prosim bodite prijazni do svojega</a:t>
            </a:r>
            <a:br>
              <a:rPr sz="4000"/>
            </a:br>
            <a:r>
              <a:rPr b="0" lang="sl-SI" sz="4000" spc="-1" strike="noStrike">
                <a:solidFill>
                  <a:srgbClr val="ee941c"/>
                </a:solidFill>
                <a:latin typeface="Cataneo BT"/>
              </a:rPr>
              <a:t>računalnika!</a:t>
            </a:r>
            <a:br>
              <a:rPr sz="4000"/>
            </a:br>
            <a:r>
              <a:rPr b="0" lang="sl-SI" sz="4000" spc="-1" strike="noStrike">
                <a:solidFill>
                  <a:srgbClr val="ee941c"/>
                </a:solidFill>
                <a:latin typeface="Cataneo BT"/>
              </a:rPr>
              <a:t>hval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6920" y="1758960"/>
            <a:ext cx="7201080" cy="49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7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5:44:49Z</dcterms:created>
  <dc:creator>uros</dc:creator>
  <dc:description/>
  <dc:language>en-US</dc:language>
  <cp:lastModifiedBy>uros</cp:lastModifiedBy>
  <dcterms:modified xsi:type="dcterms:W3CDTF">2006-11-20T08:59:31Z</dcterms:modified>
  <cp:revision>26</cp:revision>
  <dc:subject/>
  <dc:title>Pregled digitalnih multimedijskih platform za poslovno rabo</dc:title>
</cp:coreProperties>
</file>