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0FC-ACAF-4B55-B425-433FF719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8A2-E225-46F7-B14A-14E499A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F8E-834A-4ACF-8995-2ADE0C4D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ECA-F961-40BE-B633-AE70C6A0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CE95-15C6-46DA-8D4B-6719481B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D046-A9BB-4773-B712-BA7D8B2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97E-8EC3-4AD7-9128-882FD831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A088-9237-4BFE-A4AF-04E2605C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930-6A9A-484E-90BD-B41F00A1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BD43-3C8A-4A9C-8EB4-658C1DBC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246-DA99-4044-911E-9FD8C9B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981-8D01-4A0E-9872-1564C50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A654-542D-4B83-BC39-BF6DCDDE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0902-D427-4137-8106-683DA08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30D8-D7DD-4BC8-87FB-51FF929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60E8-D123-42C0-9D5A-96F4EF86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F3C-9C0D-4901-A7C1-74A81827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A49-77E0-44E7-9CD9-3F73EA9F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ADF-B4E8-4492-BBE4-84B70DD8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E19-067E-4789-B9E1-B3AD000D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603-99EB-4783-BCCB-6000166B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BB1-24B9-4DE4-8D95-6C73272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22D-0416-4491-AD55-0AAEF06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D7A-D9B0-4B71-BD03-CB197AA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9C8FAA-77CC-44C2-A253-AD9FA7980F00}" type="slidenum"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0BAC96-312C-405B-8012-CA213F281F1A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mafm.com/" TargetMode="External"/><Relationship Id="rId2" Type="http://schemas.openxmlformats.org/officeDocument/2006/relationships/hyperlink" Target="http://www.radio-locator.com/" TargetMode="External"/><Relationship Id="rId3" Type="http://schemas.openxmlformats.org/officeDocument/2006/relationships/hyperlink" Target="http://www.radio-locator.com/" TargetMode="External"/><Relationship Id="rId4" Type="http://schemas.openxmlformats.org/officeDocument/2006/relationships/hyperlink" Target="http://windows.hacker.la/clanki/internetni_radio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udio produkcija-radijska odd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00000" y="119700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a produkci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a produkcija progr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ustvarjanje program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o tehnološka skup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ekipa, ki skrbi za aparature in oprem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hnična produkcija progr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ovorna snemanja, predvajanja in izdelovanja radijskih oddaj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špiker-voditelj, novinar,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lasbena snemanja in režirane oddaj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radijski tehnik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Špiker – radijski tehn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37040" cy="61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Špiker govori v eter, vodi oddaj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hko dela sam OMB (One Man 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li pa mu pomaga tehnik, ki  skrbi za podlago, klice, glasb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32360" y="1598760"/>
            <a:ext cx="3240000" cy="21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vin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Novinar opravlja novinarsko delo na terenu, prinaša informacije, pripravlja prispevk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27640" y="30146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d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govorne (talk sh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lasb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formati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Zaba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14960" y="15987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79360" y="3922560"/>
            <a:ext cx="281628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293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i 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šalna miza (digital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tvor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agnetof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jačev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krofon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dvaj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čun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(komentatorski sis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5760" y="1940040"/>
            <a:ext cx="40370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ddaja se preko internetnega omrež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segljiv od vse povs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ečj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njše domač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ačunalnik, programska opre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roadcasting, streaming, codec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oma F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adio –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oc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Kako postaviti svoj internetni rad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24360" y="1593720"/>
            <a:ext cx="4751280" cy="415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