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9B5-2BB3-439E-95DB-33D729CA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EF7-33F7-4835-B234-ADEB5D2D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56C-BF18-490F-BAC1-E9FEB484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079-103A-4842-9149-04F3AA5E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D571-C5EA-4E2F-A7E3-682CB12A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3FA2-0800-4463-823A-33683B5E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FAA9-B42B-4363-8FD0-A51E33FA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DBD2-7875-4E71-89B0-E81EA784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D455-3502-47F4-9D46-F8437B46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5A06-BDCC-45CE-A4D1-B61A8B15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09F0-B2AC-42C3-AE70-56227A45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E32-61F6-4236-9B6E-B40621E4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82FE-AC48-4C99-B311-A029385B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897A-E43D-4A6E-9882-413E5A37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30AD-2D8E-4765-8012-3AF10A3B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3788-9705-4E55-A9DA-ED1178F2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0E18-E912-4685-9BD6-74841C42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9C3-FA8E-4A15-9850-8F097C3C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CEA-C15D-409F-A14F-123067E6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1EE-A252-48A9-86A8-26898741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9FE-9FDA-467D-9FE5-7623D11C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085-3A60-432F-8F5A-5E67F057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F10-BBBD-4909-BC04-CF2864DD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B5D-DB7D-4BC5-B14E-A0D12D4A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445008-45E7-4A06-B122-069BAD9B63A2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A819E4D-998B-4CCE-B350-9CAD7DFE0546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99ff66"/>
                </a:solidFill>
                <a:latin typeface="Arial Black"/>
              </a:rPr>
              <a:t>Problem identitete in zasebnosti v medijih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tor: Bosnić Ed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Črvi (ang. Worm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širijo se preko omrežja in avtomatiziranih mehanizm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prva so neopazni kasneje pa se lahko kažejo v počasnosti sist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mogočajo dostop in nadzor nad našim računalnikom s strani tretjih ose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mogočajo brisanje datotek, spreminjanje nastavitev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38512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Prevare z e-pošto </a:t>
            </a:r>
            <a:br>
              <a:rPr sz="4000"/>
            </a:b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(ang. E-mail spoofing)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elektronski nabiralnik dobimo sporočilo od “sistemskega administratorja”, ki od nas zahteva menjavo ges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li elektronsko sporočilo, ki od nas zahteva da pošljemo kopije datotek z gesli in druge pomembne inform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Vohunjenje paketov </a:t>
            </a:r>
            <a:br>
              <a:rPr sz="4400"/>
            </a:b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(ang. Packet sniffing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hnika, ki pregleduje in izloča informacije (gesla, uporabniška imena,..) iz informacijskih paket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 pridobljenimi podatki lahko vsiljivec sproži obsežen napad na sist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orabniki kabelskega dostopa so bolj ranljivi na takšne progr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ibarjenje (ang. phishing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assword (geslo) + fishing (ribarjen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ektronsko pismo ali spletna stran od nas zahteva, da vanjo vnesemo svoje finančne podatke ali ges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letna stran ali elektronsko pismo sta na pogled identični originalni spletni strani ali p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harm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posredni napadi na DNS strežnike ali na datoteko o gostiteljih (ang. Hos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orabniki so nevede preusmerjeni na zlonamerne spletne str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 strani so popolna kopija originaln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pa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oročilo, ki je poslano večjemu številu naslovnikov, z namenom vsiljevanja vsebine, ki se je naslovniki sami ne bi odločili prejem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večini primerov gre za oglaševanje plačljivih storitev in izdelkov dvomljive kvalit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385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vodium.com/MP/MPF/1.1.8/mpf.asp?dataset=pn100311_fh_ftc&amp;eventid=83S99Z4O&amp;majver=7&amp;minver=0&amp;revver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pyw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grami namenjen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prikritemu) zbiranju osebnih podat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kazovanju oglasov (ang. adwa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eusmerjanju spletnih brskalnikov (ang. Browser hijack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z. različnim nezakonitim dejavnostim (ang. Malwa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iškotki (ang. Cookie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formacije, ki se ob obisku posamezne spletne strani shranijo na naš računalnik in so po potrebi ponovno uporablje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osnovi so zelo uporabni, nevarnost nam predstavljajo šele kadar so zlorabljeni za neprimerno upora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Nekaj nasvetov ob deskanju po spletu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ikoli ne odgovarjajmo na elektronska pisma, ki od nas zahtevajo osebne in finančne podat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o se prijavljamo na spletne strani, ki imajo karkoli opraviti z denarjem, njihov spletni (url) naslov obvezno vtipkamo direktno v naslovno vrs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sebnih in finančnih podatkov nikoli ne pošiljamo s pomočjo elektronske poš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 računalniku imamo vedno nameščene najnovejše popravke operacijskega sistema (npr. windows update) in posodobljen antivirusni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6520" y="1905120"/>
            <a:ext cx="8007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š brskalnik lahko nastavimo tako, da pred shranjevanjem piškotka na naš računalnik vpraša za dovoljenje in tako dobimo dober pregled nad tem, katere strani zbirajo in shranjujejo informacije o 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dimo pozorni tudi pri spletnem nakupovanju (nakupujmo v priznanih spletnih trgovinah, osebni podatki naj ostanejo zasebni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sa gesla ki jih uporabljamo, naj bodo močna (ni dobro uporabljati rojstnih datumov, telefonskih številk, ime ps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36520" y="1905120"/>
            <a:ext cx="800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vodium.com/MP/MPF/1.1.8/mpf.asp?dataset=pn100311_fh_ftc&amp;eventid=83S99Z4O&amp;majver=7&amp;minver=0&amp;revver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88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Kraja identitete </a:t>
            </a:r>
            <a:br>
              <a:rPr sz="4800"/>
            </a:b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(ang. Identity thef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Do naših osebnih podatkov lahko tatovi pridejo na več načinov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umpster d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ki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h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anging th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ld- fashioned ste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6520" y="1905120"/>
            <a:ext cx="800748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Včasih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informacije o državljanih napisane na papirju in shranjene v arhiv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anes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lektronska obdelava podatkov, večina osebnih podatkov shranjena v računalniškem siste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58880" y="426600"/>
            <a:ext cx="83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b7"/>
                </a:solidFill>
                <a:latin typeface="Arial Black"/>
              </a:rPr>
              <a:t>Osebni podatki o državljanih so lahko koristni predvsem z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1905120"/>
            <a:ext cx="80074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ržavo (npr. zasledovanje za potrebe kazenskih pregonov ali finančnih preverjanj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jne služ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stvene nam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tove identit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088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Namerne zlorabe našega računalnik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rojanski konj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a od osnovnih različic škodljive programske opr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dstavlja se kot uporaben ali zabaven programč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ičuje datoteke in ustvari t.i. back do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retjim osebam omogoča popoln nadzor nad našim računalnikom in dadotekami na nj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ačunalniški virus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irijo se samodej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kužijo “zdrave” programe ali datote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irijo se zelo hi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dina</dc:creator>
  <dc:description/>
  <dc:language>en-US</dc:language>
  <cp:lastModifiedBy>edina</cp:lastModifiedBy>
  <cp:revision>0</cp:revision>
  <dc:subject/>
  <dc:title>Problem identitete in zasebnosti v medijih</dc:title>
</cp:coreProperties>
</file>