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6BA-0CC9-41EC-90C7-B5F234F0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B4C-916D-4F22-BA27-1684B6CD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FA8-247C-474D-B468-679AFC7B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14E-D5C2-403F-B276-040B21C9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C892-783D-4ED0-8F6B-C367C577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4E08-14ED-40FD-AB38-88ABFE97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7C26-A922-4DFC-98DC-BB8FD240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E54E-7ACA-4F03-8203-9B80180C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DC96-CE2F-46A1-9D9F-38261C87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A0E9-53AE-4DD3-9C53-FFC83CFE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33F3-8CF2-4AFE-B598-C67B513B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AE5-9383-42A0-9907-340BC7D5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D811-1410-4DF7-B908-5086EF65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2B99-DD00-45A6-9BA1-ACC7B726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840B-58F9-40C4-9C86-557C5436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1B11-7FCA-4FE0-A342-1614DB21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F223-B503-4FBE-A28A-68B15466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397-EBE9-4D41-A53B-77E35F32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9B8-05B3-4EFA-9307-7C8A1443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1AA-864B-4DEA-8DAB-D424A185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1E2-AD9D-4C65-AB91-CB292FFD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7FB-0FFE-44CA-87ED-F24B861A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C90-6AA8-432F-B416-2ADB4A4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8B0-5FC8-4C32-85CC-963245E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465010-2FAC-4702-9D3E-D7FB70C4BAD3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FEA40E-9A55-42B4-870E-9B7F86196B9A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revir.si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edstavitev seminarske nalog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MS Gothic"/>
              </a:rPr>
              <a:t>Osnove multimedijev</a:t>
            </a:r>
            <a:br>
              <a:rPr sz="32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Mentor: dr. Peter Purg</a:t>
            </a:r>
            <a:br>
              <a:rPr sz="30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Avtor: Tatjana Polanc Kolander</a:t>
            </a:r>
            <a:br>
              <a:rPr sz="3000"/>
            </a:br>
            <a:br>
              <a:rPr sz="3000"/>
            </a:b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20. november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33344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vigacija in struk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mpozit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erarhič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3429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ddelki multimedijskega produkcijskega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iska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uredniš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vdiost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6400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deo- in avdioproduk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rafično obliko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57800" y="152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733920" cy="2427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imer portala E-revi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ktni pred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ne skup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žna strategija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revir.si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52578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4120" y="3124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Križi in težav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kip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lgi roki izve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gram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p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žur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dgrad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5029200" cy="4738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Uporabna vrednos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orabne vsebine (podatkovne ba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rog referenčnih avtorj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ktronsko opismenjevanje r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lovno povezo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2163600"/>
            <a:ext cx="380988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rženje izdel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98108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dukcijski proces izdelave multimedijskega izdelka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540160" cy="2527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men multimedijske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izobraževalnih, poslovnih, razvedrilnih vsebin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preglednih vsebin multimedijs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67080" y="4419720"/>
            <a:ext cx="144792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element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5800" y="1828800"/>
            <a:ext cx="2359080" cy="167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1905120" cy="1866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l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6248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zv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2819160" cy="1801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4120" y="3581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grafična animacij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648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6483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T</a:t>
            </a:r>
            <a:r>
              <a:rPr b="0" lang="en-GB" sz="4400" spc="-1" strike="noStrike">
                <a:solidFill>
                  <a:srgbClr val="ffffff"/>
                </a:solidFill>
                <a:latin typeface="Showcard Gothic"/>
              </a:rPr>
              <a:t>e</a:t>
            </a:r>
            <a:r>
              <a:rPr b="0" lang="en-GB" sz="2400" spc="-1" strike="noStrike">
                <a:solidFill>
                  <a:srgbClr val="ffcc00"/>
                </a:solidFill>
                <a:latin typeface="Stencil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Showcard Gothic"/>
              </a:rPr>
              <a:t>S</a:t>
            </a:r>
            <a:r>
              <a:rPr b="1" lang="en-GB" sz="4000" spc="-1" strike="noStrike">
                <a:solidFill>
                  <a:srgbClr val="ffcc00"/>
                </a:solidFill>
                <a:latin typeface="Footlight MT Light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781680" y="4495680"/>
            <a:ext cx="18288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34320" y="6019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produk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ltimedij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kti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medijski (hyperm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povezavni (hyper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16600" y="2133720"/>
            <a:ext cx="316368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ed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44704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ost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4704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&amp;J</dc:creator>
  <dc:description/>
  <dc:language>en-US</dc:language>
  <cp:lastModifiedBy>T&amp;J</cp:lastModifiedBy>
  <cp:revision>0</cp:revision>
  <dc:subject/>
  <dc:title>PowerPoint Presentation</dc:title>
</cp:coreProperties>
</file>