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899-5E94-451F-96E0-F9D2169E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1E4-F048-4265-BB69-6E560467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A76-F077-4781-A6C3-4F4BEF97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BDA-B91E-44FD-8C2C-3F647FBA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1CF-76CB-498B-BC73-E3D878F9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ED5-363F-4FEB-B8F0-2FFF1942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1C0-43D7-433B-B20D-5BCD5EBC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FA2-6139-4C7B-ABAE-C0CC0105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31C-1E80-476B-AC5B-B1252FD0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99F-E49C-4D41-B66C-5F51E98F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10F-F680-4354-BDB0-97808B9C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D7C-2274-4C1E-80FB-D537921E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3EEB-5B59-4CAE-98C3-771837490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tvslo.si/modload.php?&amp;c_mod=rtvoddaje&amp;c_menu=6" TargetMode="External"/><Relationship Id="rId3" Type="http://schemas.openxmlformats.org/officeDocument/2006/relationships/hyperlink" Target="http://www.rtvslo.si/modload.php?&amp;c_mod=rtvoddaje&amp;c_menu=6" TargetMode="External"/><Relationship Id="rId4" Type="http://schemas.openxmlformats.org/officeDocument/2006/relationships/hyperlink" Target="http://www.rtvslo.si/modload.php?&amp;c_mod=rtvoddaje&amp;c_menu=6" TargetMode="External"/><Relationship Id="rId5" Type="http://schemas.openxmlformats.org/officeDocument/2006/relationships/hyperlink" Target="http://www.rtvslo.si/modload.php?&amp;c_mod=rtvoddaje&amp;c_menu=8" TargetMode="External"/><Relationship Id="rId6" Type="http://schemas.openxmlformats.org/officeDocument/2006/relationships/hyperlink" Target="http://www.rtvslo.si/modload.php?&amp;c_mod=rtvoddaje&amp;c_menu=8" TargetMode="External"/><Relationship Id="rId7" Type="http://schemas.openxmlformats.org/officeDocument/2006/relationships/hyperlink" Target="http://www.rtvslo.si/modload.php?&amp;c_mod=rtvoddaje&amp;c_menu=8" TargetMode="External"/><Relationship Id="rId8" Type="http://schemas.openxmlformats.org/officeDocument/2006/relationships/hyperlink" Target="http://www.rtvslo.si/modload.php?&amp;c_mod=rtvoddaje&amp;c_menu=8" TargetMode="External"/><Relationship Id="rId9" Type="http://schemas.openxmlformats.org/officeDocument/2006/relationships/hyperlink" Target="http://www.rtvslo.si/modload.php?&amp;c_mod=rtvoddaje&amp;c_menu=8" TargetMode="External"/><Relationship Id="rId10" Type="http://schemas.openxmlformats.org/officeDocument/2006/relationships/hyperlink" Target="http://www.rtvslo.si/modload.php?&amp;c_mod=rtvoddaje&amp;c_menu=10" TargetMode="External"/><Relationship Id="rId11" Type="http://schemas.openxmlformats.org/officeDocument/2006/relationships/hyperlink" Target="http://www.rtvslo.si/modload.php?&amp;c_mod=rtvoddaje&amp;c_menu=10" TargetMode="External"/><Relationship Id="rId12" Type="http://schemas.openxmlformats.org/officeDocument/2006/relationships/hyperlink" Target="http://www.rtvslo.si/modload.php?&amp;c_mod=rtvoddaje&amp;c_menu=10" TargetMode="External"/><Relationship Id="rId13" Type="http://schemas.openxmlformats.org/officeDocument/2006/relationships/hyperlink" Target="http://www.rtvslo.si/modload.php?&amp;c_mod=rtvoddaje&amp;c_menu=10" TargetMode="External"/><Relationship Id="rId14" Type="http://schemas.openxmlformats.org/officeDocument/2006/relationships/hyperlink" Target="http://www.rtvslo.si/modload.php?&amp;c_mod=rtvoddaje&amp;c_menu=10" TargetMode="External"/><Relationship Id="rId15" Type="http://schemas.openxmlformats.org/officeDocument/2006/relationships/hyperlink" Target="http://www.rtvslo.si/modload.php?&amp;c_mod=rtvoddaje&amp;c_menu=11" TargetMode="External"/><Relationship Id="rId16" Type="http://schemas.openxmlformats.org/officeDocument/2006/relationships/hyperlink" Target="http://www.rtvslo.si/modload.php?&amp;c_mod=rtvoddaje&amp;c_menu=11" TargetMode="External"/><Relationship Id="rId17" Type="http://schemas.openxmlformats.org/officeDocument/2006/relationships/hyperlink" Target="http://www.rtvslo.si/modload.php?&amp;c_mod=rtvoddaje&amp;c_menu=11" TargetMode="External"/><Relationship Id="rId18" Type="http://schemas.openxmlformats.org/officeDocument/2006/relationships/hyperlink" Target="http://www.rtvslo.si/modload.php?&amp;c_mod=rtvoddaje&amp;c_menu=11" TargetMode="External"/><Relationship Id="rId19" Type="http://schemas.openxmlformats.org/officeDocument/2006/relationships/hyperlink" Target="http://www.rtvslo.si/modload.php?&amp;c_mod=rtvoddaje&amp;c_menu=11" TargetMode="External"/><Relationship Id="rId20" Type="http://schemas.openxmlformats.org/officeDocument/2006/relationships/hyperlink" Target="http://www.rtvslo.si/modload.php?&amp;c_mod=rtvoddaje&amp;c_menu=2" TargetMode="External"/><Relationship Id="rId21" Type="http://schemas.openxmlformats.org/officeDocument/2006/relationships/hyperlink" Target="http://www.rtvslo.si/modload.php?&amp;c_mod=rtvoddaje&amp;c_menu=2" TargetMode="External"/><Relationship Id="rId22" Type="http://schemas.openxmlformats.org/officeDocument/2006/relationships/hyperlink" Target="http://www.rtvslo.si/modload.php?&amp;c_mod=rtvoddaje&amp;c_menu=2" TargetMode="External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EGLED PROCESA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TV PRODUKCIJE (PRIPRAVA TV ODDAJE) IN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IHODNOST TELEVIZIJE</a:t>
            </a:r>
            <a:br>
              <a:rPr sz="66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863-76AC-4F63-AAF3-34510DECD2F8}" type="slidenum">
              <a:t>1</a:t>
            </a:fld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oglavitni sodelavci </a:t>
            </a:r>
            <a:br>
              <a:rPr sz="6000"/>
            </a:b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ri pisni pripravi tv oddaj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Urednik, redaktor, novinar, komentatorj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oducent, organizat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ajnica rez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02C-C63D-4565-850F-37BDD6BA7DF2}" type="slidenum">
              <a:t>10</a:t>
            </a:fld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 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TEHNI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C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NA PRODUKCIJA 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TV ODDAJ</a:t>
            </a:r>
            <a:br>
              <a:rPr sz="10600"/>
            </a:b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66D-195A-4551-B002-7C4DD5BAD3CD}" type="slidenum">
              <a:t>11</a:t>
            </a:fld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1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PRIPRAVA LOKACIJE SNEMANJ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8DE-8E1E-46D0-BEBE-F1B7FF4CA3E2}" type="slidenum">
              <a:t>12</a:t>
            </a:fld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SKUPINA ZA LIKOVNO UPRIZORITEV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Scenski delavc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rekviziterj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kostumograf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Masker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šo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CD7-8D8D-40FD-95B3-25B8C593E68E}" type="slidenum">
              <a:t>13</a:t>
            </a:fld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kul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3380-F09B-447E-A086-9BBDD8687890}" type="slidenum">
              <a:t>14</a:t>
            </a:fld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SVETLJAV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azsvetljavo vseh studijev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azsvetljava 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iredite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F76-C9FC-4832-BF00-4E0B93350F08}" type="slidenum">
              <a:t>15</a:t>
            </a:fld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I AVTOMOBI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porta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avtomobil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 ekip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3678120" cy="29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95F-BD32-492A-A6B4-3EF37A17AC98}" type="slidenum">
              <a:t>16</a:t>
            </a:fld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2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SNEMAN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495-B79D-49B9-93D6-ACA498D4E3D8}" type="slidenum">
              <a:t>17</a:t>
            </a:fld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nem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nje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v studijih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,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terenu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nokamernih snemanjih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Snemanje iz 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nih avtomobil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v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EBD-A8FF-46C3-A384-B5C2020F109D}" type="slidenum">
              <a:t>18</a:t>
            </a:fld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vod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ešalci slike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kontrole kame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grafi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BBA-0D23-4A3B-834E-8BBEB2368B3A}" type="slidenum">
              <a:t>19</a:t>
            </a:fld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PREGLED PROCESA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TV PRODUKCIJE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(PRIPRAVA TV ODDAJE</a:t>
            </a:r>
            <a:r>
              <a:rPr b="1" lang="sl-SI" sz="6000" spc="-1" strike="noStrike">
                <a:solidFill>
                  <a:srgbClr val="0066ff"/>
                </a:solidFill>
                <a:latin typeface="Chiller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2452680" cy="31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0A4F-BD90-4D1B-ABEE-CECBC3A1BE50}" type="slidenum">
              <a:t>2</a:t>
            </a:fld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asistent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tehnik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ojstr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zvo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8F0-F165-4960-8150-C9B9829E8119}" type="slidenum">
              <a:t>20</a:t>
            </a:fld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ODELUJOCI PRI SNEMANJU: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NASTOPAJOCI,</a:t>
            </a: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ITEL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SKUPINA ZA  RAZSVELJA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C1F-7BBF-4829-A105-7637E588F520}" type="slidenum">
              <a:t>21</a:t>
            </a:fld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3</a:t>
            </a: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10600" spc="-1" strike="noStrike">
                <a:solidFill>
                  <a:srgbClr val="ff0000"/>
                </a:solidFill>
                <a:latin typeface="Chiller"/>
              </a:rPr>
              <a:t>MONTAZ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85E-7E21-4751-A358-ACDC0D26B8A3}" type="slidenum">
              <a:t>22</a:t>
            </a:fld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TV MON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lektronsk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C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(programirana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OFF lin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2AA-7C78-4CDB-A36E-77D0A861815A}" type="slidenum">
              <a:t>23</a:t>
            </a:fld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GRAFIK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Klas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unalniš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-elektrons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29D-E483-4441-BA6C-AB91685E5E4E}" type="slidenum">
              <a:t>24</a:t>
            </a:fld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FOTOFILMSKI LABORATORIJ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zvij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filme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ipr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filmov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blikov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obdel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958F-7D82-4A5C-ACED-2FAC3F9E8170}" type="slidenum">
              <a:t>25</a:t>
            </a:fld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MAGNETOSKOP IN TELEKI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sneman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eprodukcij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edvajan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391968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CEAB-5196-4B5C-B880-5F408D9DA79E}" type="slidenum">
              <a:t>26</a:t>
            </a:fld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4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LANSIRANJE ODDA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264-C262-479A-8E6D-EA21B048DB20}" type="slidenum">
              <a:t>27</a:t>
            </a:fld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DELILN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a kontrola produ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c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j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T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izmenjavo evrovizijskega program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tel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B04-2562-491E-97B3-FBB6E80DF672}" type="slidenum">
              <a:t>28</a:t>
            </a:fld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EDVAJANJE PROGRAMO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televizij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satelit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9DC-1FC5-45BF-92C5-A74C2DBD4FAE}" type="slidenum">
              <a:t>29</a:t>
            </a:fld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NI KRITERIJI PRODUKCIJE TV ODDA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Sporocilo gledalc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Nacini produkci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Tehnicna 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Organizacija projek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C157-4421-453E-BFCF-A66695136875}" type="slidenum">
              <a:t>3</a:t>
            </a:fld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63B-85D8-49A5-85EE-63E7F84EBDB0}" type="slidenum">
              <a:t>30</a:t>
            </a:fld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Konec </a:t>
            </a:r>
            <a:br>
              <a:rPr sz="5400"/>
            </a:b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 tv produkc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5BB-D9B4-426A-BC56-9D9F7C1D8F9E}" type="slidenum">
              <a:t>31</a:t>
            </a:fld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ff00"/>
                </a:solidFill>
                <a:latin typeface="Chiller"/>
              </a:rPr>
              <a:t>3. Primerjava SLO – ITA PRODUKCIJ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3DA-D793-4821-8172-7F51A28BCEEE}" type="slidenum">
              <a:t>32</a:t>
            </a:fld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00"/>
                </a:solidFill>
                <a:latin typeface="Chiller"/>
              </a:rPr>
              <a:t>Primerjava SLO – ITA PRODUKCIJI</a:t>
            </a:r>
            <a:br>
              <a:rPr sz="4000"/>
            </a:b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tistega lepega popoldneva – buona domen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64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ANR – RAZVEDRILNA ODD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FORMAT – NEDELJO POPOL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80600" y="27082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link tlp                 link buona dome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120960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56000" y="18446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A88-D016-420D-A632-49A2440EA7DD}" type="slidenum">
              <a:t>33</a:t>
            </a:fld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0000"/>
                </a:solidFill>
                <a:latin typeface="Chiller"/>
              </a:rPr>
              <a:t>Komenta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TICNE TOC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RAZL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008-FA9A-42AB-86BD-0C0920B363FE}" type="slidenum">
              <a:t>34</a:t>
            </a:fld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1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2F3-23B2-4AE0-BD78-C6F08C18BA4C}" type="slidenum">
              <a:t>35</a:t>
            </a:fld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66ff"/>
                </a:solidFill>
                <a:latin typeface="Chiller"/>
              </a:rPr>
              <a:t>PRIHODNOST TELEVIZIJ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00160" y="3144960"/>
            <a:ext cx="5019840" cy="345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1AE-D16E-4994-82E1-1AF1A8CB3793}" type="slidenum">
              <a:t>36</a:t>
            </a:fld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TANDARDIZACI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IPTV spletna tv (siol tv, volja tel, t2, aditeya t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C digitalna kabelska TV (telemach – preizkus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digitalna TV (dodatne moznosti za še pestrejšo ponudbo program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T , zemeljska digitalna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MB, DVB-H zemeljsko televizijsko omrezje za mobilne nap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–S, DVB-S2  Sateletska digitalna tv - Digital Video Broa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WEB TV – on line streaming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Novi standar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53480" y="0"/>
            <a:ext cx="1190520" cy="101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EB0-4242-4889-8E5F-45C227F8AE9F}" type="slidenum">
              <a:t>37</a:t>
            </a:fld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ENOS TV SIGNALA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 </a:t>
            </a:r>
            <a:br>
              <a:rPr sz="4400"/>
            </a:b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multimedijska konvergen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OPTICNO KABELSKO DIGITALNO OMREZJE – FTTH &gt;1 G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TELEFONSKO OMREZJE (OPTICNO) – ADSL2, VDSL, EDGE &gt;100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MOBILNO DIGITALNO OMREZJE - U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SATELIT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ZEMELJ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NOVE TEHNOLOGIJE PRENOSA SIG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A08-5897-4540-9FF2-B27D4D72AAF3}" type="slidenum">
              <a:t>38</a:t>
            </a:fld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42968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713-731A-4B5C-B1A0-7CB0D238C97F}" type="slidenum">
              <a:t>39</a:t>
            </a:fld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DDAJE (primer RTV SL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"/>
              </a:rPr>
              <a:t>Informativ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5"/>
              </a:rPr>
              <a:t>Izobra</a:t>
            </a:r>
            <a:r>
              <a:rPr b="0" lang="sl-SI" sz="4400" spc="-1" strike="noStrike" u="sng">
                <a:solidFill>
                  <a:srgbClr val="009999"/>
                </a:solidFill>
                <a:uFillTx/>
                <a:latin typeface="Chiller"/>
                <a:hlinkClick r:id="rId6"/>
              </a:rPr>
              <a:t>z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7"/>
              </a:rPr>
              <a:t>eva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0"/>
              </a:rPr>
              <a:t>Kulturno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2"/>
              </a:rPr>
              <a:t>umetni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5"/>
              </a:rPr>
              <a:t>Otro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6"/>
              </a:rPr>
              <a:t> -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7"/>
              </a:rPr>
              <a:t>mladins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0"/>
              </a:rPr>
              <a:t>Razvedri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2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Športne 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Verske oddaj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3"/>
          <a:stretch/>
        </p:blipFill>
        <p:spPr>
          <a:xfrm>
            <a:off x="5508720" y="134136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4"/>
          <a:stretch/>
        </p:blipFill>
        <p:spPr>
          <a:xfrm>
            <a:off x="4500720" y="5013360"/>
            <a:ext cx="1495440" cy="120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5"/>
          <a:stretch/>
        </p:blipFill>
        <p:spPr>
          <a:xfrm>
            <a:off x="5580000" y="3701880"/>
            <a:ext cx="2160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14C-55E1-47E8-8105-F35CEF8DB051}" type="slidenum">
              <a:t>4</a:t>
            </a:fld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V - MM VMESNI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ANALOG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HDM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ASERSK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LASM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OBILNI TELEF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DLANC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RENOSNI MI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PROJEKTOR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SET TOP BOX (siol tv, volja 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HP multimedia home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NOVI VMES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571920" cy="2381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284720" y="3645000"/>
            <a:ext cx="2448000" cy="14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B07-E0ED-4E7F-84E2-244351612946}" type="slidenum">
              <a:t>40</a:t>
            </a:fld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redvidena prodaja ST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280" y="1484280"/>
          <a:ext cx="7997760" cy="464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484280"/>
                    <a:ext cx="799776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760-E7AB-4AE3-8EB5-E23911EF287D}" type="slidenum">
              <a:t>41</a:t>
            </a:fld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VSEOBSEGAJOCI DOMACI KOMUNIKACIJSKI MEDIJ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PAY TV (prvovrstni filmi in posebni športni program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 (video na zahtev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ay-per-view (zaracunavanje na prik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VR  (osebni video snemalni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180-04FA-48F8-9464-90978A32BA23}" type="slidenum">
              <a:t>42</a:t>
            </a:fld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INTERAKTIVNOST </a:t>
            </a:r>
            <a:br>
              <a:rPr sz="4000"/>
            </a:b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325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i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nstant mess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on-dem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ban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mailing video predstavit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c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nove sodobne aplikaci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174-8999-4F7A-8FD5-5231EF9BFB63}" type="slidenum">
              <a:t>43</a:t>
            </a:fld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nline g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19280" y="1209600"/>
            <a:ext cx="5905440" cy="443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03A-7F49-45BB-BDBF-C5D238D1D060}" type="slidenum">
              <a:t>44</a:t>
            </a:fld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611760" cy="41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CA7-80C4-4A80-BE13-B6E055C5F164}" type="slidenum">
              <a:t>45</a:t>
            </a:fld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ele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815080" cy="407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1E5-4BA1-4AAB-BFD5-74FC473F00D9}" type="slidenum">
              <a:t>46</a:t>
            </a:fld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V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4772160" cy="42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794-2613-4CE4-8403-A314378FC208}" type="slidenum">
              <a:t>47</a:t>
            </a:fld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g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486400" cy="37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904-E061-448C-87FE-DDC82844896E}" type="slidenum">
              <a:t>48</a:t>
            </a:fld>
          </a:p>
        </p:txBody>
      </p: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teractive Television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5068800" cy="380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2B9-F800-4212-9D43-7A3D85C5E771}" type="slidenum">
              <a:t>49</a:t>
            </a:fld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ffff00"/>
              </a:buClr>
              <a:buFont typeface="Chill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200" spc="-1" strike="noStrike">
                <a:solidFill>
                  <a:srgbClr val="ffff00"/>
                </a:solidFill>
                <a:latin typeface="Chiller"/>
              </a:rPr>
              <a:t>PRIPRAVE</a:t>
            </a:r>
            <a:br>
              <a:rPr sz="14200"/>
            </a:br>
            <a:r>
              <a:rPr b="0" lang="sl-SI" sz="8000" spc="-1" strike="noStrike">
                <a:solidFill>
                  <a:srgbClr val="ffff00"/>
                </a:solidFill>
                <a:latin typeface="Chiller"/>
              </a:rPr>
              <a:t>PISNA DOKUMENTACIJ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E0F-EB4F-4C95-82DE-FFEC34790929}" type="slidenum">
              <a:t>5</a:t>
            </a:fld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promo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703840" cy="38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B67-3F25-41E0-9E19-B2FA6473638E}" type="slidenum">
              <a:t>50</a:t>
            </a:fld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55054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4D6-7D20-4502-B829-CB00FE62EAB9}" type="slidenum">
              <a:t>51</a:t>
            </a:fld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RED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Profesionalna produkcija tv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Bogati arhivi avdio-video vseb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ostopnost uporab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Interaktivnost – vplivanje na vseb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sesplošna raba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6BF-ACF5-48E7-AF91-06F9EDCB008D}" type="slidenum">
              <a:t>52</a:t>
            </a:fld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LAB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loraba informac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Neprimerna 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raga priprava in distribucija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zpostavitev novih modernih omre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351-5D2B-4A5A-89F7-8ADA59B2F0A0}" type="slidenum">
              <a:t>53</a:t>
            </a:fld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2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681-5BB0-457C-AC3C-B4258B77AEB2}" type="slidenum">
              <a:t>54</a:t>
            </a:fld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80024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INOPSIS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CENARIJ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043-8253-417C-B923-A5A6C6A3D168}" type="slidenum">
              <a:t>6</a:t>
            </a:fld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79640" y="77760"/>
            <a:ext cx="5133960" cy="678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6200000">
            <a:off x="-3926520" y="3003840"/>
            <a:ext cx="974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amisel, ideja, SINOPS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986-0CF8-478B-9679-F36C6F287242}" type="slidenum">
              <a:t>7</a:t>
            </a:fld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28880" y="138240"/>
            <a:ext cx="5286240" cy="6583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6200000">
            <a:off x="-1810800" y="2393280"/>
            <a:ext cx="5689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Scenarij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D1F-4B2C-45AB-ACF6-788B60755608}" type="slidenum">
              <a:t>8</a:t>
            </a:fld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14560" y="66600"/>
            <a:ext cx="5114880" cy="6726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16200000">
            <a:off x="-3554280" y="2768040"/>
            <a:ext cx="898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2FB-6F7B-40FE-9817-D6D4394FFB92}" type="slidenum">
              <a:t>9</a:t>
            </a:fld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21:55:29Z</dcterms:created>
  <dc:creator>jh</dc:creator>
  <dc:description/>
  <dc:language>en-US</dc:language>
  <cp:lastModifiedBy>jh</cp:lastModifiedBy>
  <dcterms:modified xsi:type="dcterms:W3CDTF">2006-11-09T09:03:17Z</dcterms:modified>
  <cp:revision>106</cp:revision>
  <dc:subject/>
  <dc:title>PRIHODNOST TELEVIZIJE</dc:title>
</cp:coreProperties>
</file>